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436-428E-4B12-8E83-1D88B7A8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51E-A0C9-4A5B-BC34-78F4D65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284-A6A8-4EF2-AE09-85843932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FC5-DD88-4729-BF6E-651772BBB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8AC1-6B55-417F-AED1-18389165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645-6906-444E-B795-8386F135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417E-D21D-4DC2-8FCC-FC2FB801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8501-723A-43C3-B347-0B36C986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B88-ED22-46FA-82A0-6AC7E727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43E-BFBF-4167-AA7F-F7B32C5F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85D-9CC2-40C4-A086-464872C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A58-D367-4A59-A914-F2F9CF1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409-17EE-4D2A-9540-611F3EC51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chado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26/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ridge, 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62120" y="1523880"/>
            <a:ext cx="340344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w and improv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2362320"/>
            <a:ext cx="30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V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516720" y="6032520"/>
            <a:ext cx="261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yBase - Harv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436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439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442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445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448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451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454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459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463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465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476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482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491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504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505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508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511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514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518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522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52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52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53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53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53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54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54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55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55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55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56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3657600" y="457200"/>
            <a:ext cx="5142960" cy="6400800"/>
            <a:chOff x="3657600" y="457200"/>
            <a:chExt cx="5142960" cy="6400800"/>
          </a:xfrm>
        </p:grpSpPr>
        <p:grpSp>
          <p:nvGrpSpPr>
            <p:cNvPr id="572" name=""/>
            <p:cNvGrpSpPr/>
            <p:nvPr/>
          </p:nvGrpSpPr>
          <p:grpSpPr>
            <a:xfrm>
              <a:off x="3886200" y="4876920"/>
              <a:ext cx="1295280" cy="1218960"/>
              <a:chOff x="3886200" y="4876920"/>
              <a:chExt cx="1295280" cy="1218960"/>
            </a:xfrm>
          </p:grpSpPr>
          <p:sp>
            <p:nvSpPr>
              <p:cNvPr id="573" name=""/>
              <p:cNvSpPr/>
              <p:nvPr/>
            </p:nvSpPr>
            <p:spPr>
              <a:xfrm>
                <a:off x="3886200" y="48769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86200" y="48769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657600" y="457200"/>
              <a:ext cx="1752480" cy="1485720"/>
              <a:chOff x="3657600" y="457200"/>
              <a:chExt cx="1752480" cy="1485720"/>
            </a:xfrm>
          </p:grpSpPr>
          <p:sp>
            <p:nvSpPr>
              <p:cNvPr id="576" name=""/>
              <p:cNvSpPr/>
              <p:nvPr/>
            </p:nvSpPr>
            <p:spPr>
              <a:xfrm>
                <a:off x="3657600" y="4572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7600" y="4572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 flipH="1">
              <a:off x="5142960" y="51055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5448600" y="1600200"/>
              <a:ext cx="914040" cy="1523880"/>
              <a:chOff x="5448600" y="1600200"/>
              <a:chExt cx="914040" cy="1523880"/>
            </a:xfrm>
          </p:grpSpPr>
          <p:sp>
            <p:nvSpPr>
              <p:cNvPr id="580" name=""/>
              <p:cNvSpPr/>
              <p:nvPr/>
            </p:nvSpPr>
            <p:spPr>
              <a:xfrm>
                <a:off x="5970960" y="16002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970960" y="31240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5448600" y="16002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152960" y="6095880"/>
              <a:ext cx="1827000" cy="533520"/>
              <a:chOff x="4152960" y="6095880"/>
              <a:chExt cx="1827000" cy="533520"/>
            </a:xfrm>
          </p:grpSpPr>
          <p:sp>
            <p:nvSpPr>
              <p:cNvPr id="584" name=""/>
              <p:cNvSpPr/>
              <p:nvPr/>
            </p:nvSpPr>
            <p:spPr>
              <a:xfrm>
                <a:off x="4152960" y="60958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152960" y="66294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981760" y="5715000"/>
              <a:ext cx="2818800" cy="1143000"/>
              <a:chOff x="5981760" y="5715000"/>
              <a:chExt cx="2818800" cy="1143000"/>
            </a:xfrm>
          </p:grpSpPr>
          <p:sp>
            <p:nvSpPr>
              <p:cNvPr id="587" name=""/>
              <p:cNvSpPr/>
              <p:nvPr/>
            </p:nvSpPr>
            <p:spPr>
              <a:xfrm>
                <a:off x="5981760" y="57150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981760" y="57150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115120" y="2972520"/>
              <a:ext cx="380880" cy="2742480"/>
              <a:chOff x="8115120" y="2972520"/>
              <a:chExt cx="380880" cy="2742480"/>
            </a:xfrm>
          </p:grpSpPr>
          <p:sp>
            <p:nvSpPr>
              <p:cNvPr id="590" name=""/>
              <p:cNvSpPr/>
              <p:nvPr/>
            </p:nvSpPr>
            <p:spPr>
              <a:xfrm flipV="1">
                <a:off x="8496000" y="29725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115120" y="29725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533840" y="3505680"/>
              <a:ext cx="1827000" cy="1371240"/>
              <a:chOff x="4533840" y="3505680"/>
              <a:chExt cx="1827000" cy="137124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4533840" y="35056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533840" y="35056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838760" y="3962520"/>
              <a:ext cx="1522440" cy="914400"/>
              <a:chOff x="4838760" y="3962520"/>
              <a:chExt cx="1522440" cy="914400"/>
            </a:xfrm>
          </p:grpSpPr>
          <p:sp>
            <p:nvSpPr>
              <p:cNvPr id="596" name=""/>
              <p:cNvSpPr/>
              <p:nvPr/>
            </p:nvSpPr>
            <p:spPr>
              <a:xfrm flipV="1">
                <a:off x="4838760" y="39625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838760" y="39625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067360" y="4190760"/>
              <a:ext cx="1293840" cy="685800"/>
              <a:chOff x="5067360" y="4190760"/>
              <a:chExt cx="1293840" cy="685800"/>
            </a:xfrm>
          </p:grpSpPr>
          <p:sp>
            <p:nvSpPr>
              <p:cNvPr id="599" name=""/>
              <p:cNvSpPr/>
              <p:nvPr/>
            </p:nvSpPr>
            <p:spPr>
              <a:xfrm flipV="1">
                <a:off x="5067360" y="41907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067360" y="41907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6362640" y="2057400"/>
              <a:ext cx="1752480" cy="2209680"/>
              <a:chOff x="6362640" y="2057400"/>
              <a:chExt cx="1752480" cy="2209680"/>
            </a:xfrm>
          </p:grpSpPr>
          <p:sp>
            <p:nvSpPr>
              <p:cNvPr id="602" name=""/>
              <p:cNvSpPr/>
              <p:nvPr/>
            </p:nvSpPr>
            <p:spPr>
              <a:xfrm>
                <a:off x="6362640" y="20574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62640" y="20574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4228920" y="3276720"/>
              <a:ext cx="2131560" cy="1599840"/>
              <a:chOff x="4228920" y="3276720"/>
              <a:chExt cx="2131560" cy="1599840"/>
            </a:xfrm>
          </p:grpSpPr>
          <p:sp>
            <p:nvSpPr>
              <p:cNvPr id="605" name=""/>
              <p:cNvSpPr/>
              <p:nvPr/>
            </p:nvSpPr>
            <p:spPr>
              <a:xfrm flipV="1">
                <a:off x="4228920" y="32767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228920" y="32767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514920" y="4266720"/>
              <a:ext cx="1295640" cy="381600"/>
              <a:chOff x="6514920" y="4266720"/>
              <a:chExt cx="1295640" cy="38160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6514920" y="4267080"/>
                <a:ext cx="1294200" cy="381240"/>
                <a:chOff x="6514920" y="4267080"/>
                <a:chExt cx="1294200" cy="38124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514920" y="42670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514920" y="46483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"/>
              <p:cNvSpPr/>
              <p:nvPr/>
            </p:nvSpPr>
            <p:spPr>
              <a:xfrm flipV="1">
                <a:off x="7810560" y="42667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2" name=""/>
            <p:cNvSpPr/>
            <p:nvPr/>
          </p:nvSpPr>
          <p:spPr>
            <a:xfrm>
              <a:off x="6286320" y="46483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6438960" y="457200"/>
              <a:ext cx="1752480" cy="1143000"/>
              <a:chOff x="6438960" y="457200"/>
              <a:chExt cx="1752480" cy="1143000"/>
            </a:xfrm>
          </p:grpSpPr>
          <p:sp>
            <p:nvSpPr>
              <p:cNvPr id="614" name=""/>
              <p:cNvSpPr/>
              <p:nvPr/>
            </p:nvSpPr>
            <p:spPr>
              <a:xfrm>
                <a:off x="6438960" y="4572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38960" y="4572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 flipH="1">
              <a:off x="5448240" y="10666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0" y="2514600"/>
            <a:ext cx="8153280" cy="2133720"/>
            <a:chOff x="0" y="2514600"/>
            <a:chExt cx="8153280" cy="2133720"/>
          </a:xfrm>
        </p:grpSpPr>
        <p:sp>
          <p:nvSpPr>
            <p:cNvPr id="618" name=""/>
            <p:cNvSpPr/>
            <p:nvPr/>
          </p:nvSpPr>
          <p:spPr>
            <a:xfrm>
              <a:off x="6400800" y="3124080"/>
              <a:ext cx="1752480" cy="914400"/>
            </a:xfrm>
            <a:prstGeom prst="rect">
              <a:avLst/>
            </a:prstGeom>
            <a:noFill/>
            <a:ln w="69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0" y="2514600"/>
              <a:ext cx="2819520" cy="2133720"/>
            </a:xfrm>
            <a:prstGeom prst="rect">
              <a:avLst/>
            </a:prstGeom>
            <a:solidFill>
              <a:srgbClr val="ffff00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bservable_id: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ttr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 leth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alue_id: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g. domina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0" name=""/>
            <p:cNvCxnSpPr>
              <a:stCxn id="619" idx="3"/>
              <a:endCxn id="618" idx="1"/>
            </p:cNvCxnSpPr>
            <p:nvPr/>
          </p:nvCxnSpPr>
          <p:spPr>
            <a:xfrm>
              <a:off x="2819160" y="3580920"/>
              <a:ext cx="3547080" cy="1080"/>
            </a:xfrm>
            <a:prstGeom prst="straightConnector1">
              <a:avLst/>
            </a:prstGeom>
            <a:ln w="66600">
              <a:solidFill>
                <a:srgbClr val="ffff00"/>
              </a:solidFill>
              <a:miter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22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26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30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34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37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40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646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649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652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658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664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-88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 | domin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0" name=""/>
          <p:cNvCxnSpPr>
            <a:stCxn id="667" idx="4"/>
            <a:endCxn id="668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les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8" idx="3"/>
            <a:endCxn id="671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4" name=""/>
          <p:cNvCxnSpPr>
            <a:stCxn id="668" idx="5"/>
            <a:endCxn id="672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75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678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679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686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693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696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699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02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08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11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14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20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2514600"/>
            <a:ext cx="1447560" cy="91440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52280" y="5181480"/>
            <a:ext cx="3353040" cy="685800"/>
            <a:chOff x="152280" y="5181480"/>
            <a:chExt cx="3353040" cy="685800"/>
          </a:xfrm>
        </p:grpSpPr>
        <p:sp>
          <p:nvSpPr>
            <p:cNvPr id="727" name=""/>
            <p:cNvSpPr/>
            <p:nvPr/>
          </p:nvSpPr>
          <p:spPr>
            <a:xfrm>
              <a:off x="15228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7160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90920" y="51814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09480" y="3886200"/>
            <a:ext cx="450000" cy="773280"/>
            <a:chOff x="609480" y="3886200"/>
            <a:chExt cx="450000" cy="773280"/>
          </a:xfrm>
        </p:grpSpPr>
        <p:grpSp>
          <p:nvGrpSpPr>
            <p:cNvPr id="731" name=""/>
            <p:cNvGrpSpPr/>
            <p:nvPr/>
          </p:nvGrpSpPr>
          <p:grpSpPr>
            <a:xfrm>
              <a:off x="609480" y="3886200"/>
              <a:ext cx="447840" cy="773280"/>
              <a:chOff x="609480" y="3886200"/>
              <a:chExt cx="447840" cy="773280"/>
            </a:xfrm>
          </p:grpSpPr>
          <p:sp>
            <p:nvSpPr>
              <p:cNvPr id="732" name=""/>
              <p:cNvSpPr/>
              <p:nvPr/>
            </p:nvSpPr>
            <p:spPr>
              <a:xfrm>
                <a:off x="6094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6094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6105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523880" y="3886200"/>
            <a:ext cx="450000" cy="773280"/>
            <a:chOff x="1523880" y="3886200"/>
            <a:chExt cx="450000" cy="773280"/>
          </a:xfrm>
        </p:grpSpPr>
        <p:grpSp>
          <p:nvGrpSpPr>
            <p:cNvPr id="736" name=""/>
            <p:cNvGrpSpPr/>
            <p:nvPr/>
          </p:nvGrpSpPr>
          <p:grpSpPr>
            <a:xfrm>
              <a:off x="1523880" y="3886200"/>
              <a:ext cx="447840" cy="773280"/>
              <a:chOff x="1523880" y="3886200"/>
              <a:chExt cx="447840" cy="773280"/>
            </a:xfrm>
          </p:grpSpPr>
          <p:sp>
            <p:nvSpPr>
              <p:cNvPr id="737" name=""/>
              <p:cNvSpPr/>
              <p:nvPr/>
            </p:nvSpPr>
            <p:spPr>
              <a:xfrm>
                <a:off x="1523880" y="388620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1523880" y="4272840"/>
                <a:ext cx="44784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152496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74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74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4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5" name=""/>
          <p:cNvCxnSpPr>
            <a:stCxn id="723" idx="4"/>
            <a:endCxn id="724" idx="0"/>
          </p:cNvCxnSpPr>
          <p:nvPr/>
        </p:nvCxnSpPr>
        <p:spPr>
          <a:xfrm flipV="1" rot="10800000">
            <a:off x="1713960" y="2133360"/>
            <a:ext cx="108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6" name=""/>
          <p:cNvCxnSpPr>
            <a:stCxn id="724" idx="3"/>
            <a:endCxn id="732" idx="0"/>
          </p:cNvCxnSpPr>
          <p:nvPr/>
        </p:nvCxnSpPr>
        <p:spPr>
          <a:xfrm rot="5400000">
            <a:off x="722520" y="3405960"/>
            <a:ext cx="591120" cy="370800"/>
          </a:xfrm>
          <a:prstGeom prst="curvedConnector5">
            <a:avLst>
              <a:gd name="adj1" fmla="val 61243"/>
              <a:gd name="adj2" fmla="val 49951"/>
              <a:gd name="adj3" fmla="val 612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24" idx="4"/>
            <a:endCxn id="737" idx="0"/>
          </p:cNvCxnSpPr>
          <p:nvPr/>
        </p:nvCxnSpPr>
        <p:spPr>
          <a:xfrm flipH="1" rot="16200000">
            <a:off x="1502640" y="3640680"/>
            <a:ext cx="457920" cy="33840"/>
          </a:xfrm>
          <a:prstGeom prst="curvedConnector5">
            <a:avLst>
              <a:gd name="adj1" fmla="val 49960"/>
              <a:gd name="adj2" fmla="val 49462"/>
              <a:gd name="adj3" fmla="val 499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24" idx="5"/>
            <a:endCxn id="744" idx="0"/>
          </p:cNvCxnSpPr>
          <p:nvPr/>
        </p:nvCxnSpPr>
        <p:spPr>
          <a:xfrm flipH="1" rot="16200000">
            <a:off x="2148480" y="3371760"/>
            <a:ext cx="667440" cy="515160"/>
          </a:xfrm>
          <a:prstGeom prst="curvedConnector5">
            <a:avLst>
              <a:gd name="adj1" fmla="val 59956"/>
              <a:gd name="adj2" fmla="val 50000"/>
              <a:gd name="adj3" fmla="val 599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8377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75212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42840" y="37339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2" name=""/>
          <p:cNvCxnSpPr>
            <a:stCxn id="733" idx="0"/>
            <a:endCxn id="727" idx="0"/>
          </p:cNvCxnSpPr>
          <p:nvPr/>
        </p:nvCxnSpPr>
        <p:spPr>
          <a:xfrm rot="5400000">
            <a:off x="459720" y="4809960"/>
            <a:ext cx="521280" cy="223200"/>
          </a:xfrm>
          <a:prstGeom prst="curvedConnector5">
            <a:avLst>
              <a:gd name="adj1" fmla="val 49689"/>
              <a:gd name="adj2" fmla="val 49919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38" idx="0"/>
            <a:endCxn id="728" idx="0"/>
          </p:cNvCxnSpPr>
          <p:nvPr/>
        </p:nvCxnSpPr>
        <p:spPr>
          <a:xfrm flipH="1" rot="16200000">
            <a:off x="1526400" y="4879800"/>
            <a:ext cx="521280" cy="83160"/>
          </a:xfrm>
          <a:prstGeom prst="curvedConnector5">
            <a:avLst>
              <a:gd name="adj1" fmla="val 49689"/>
              <a:gd name="adj2" fmla="val 50000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4" name=""/>
          <p:cNvCxnSpPr>
            <a:stCxn id="743" idx="0"/>
            <a:endCxn id="729" idx="0"/>
          </p:cNvCxnSpPr>
          <p:nvPr/>
        </p:nvCxnSpPr>
        <p:spPr>
          <a:xfrm flipH="1" rot="16200000">
            <a:off x="2630880" y="4765320"/>
            <a:ext cx="521280" cy="311760"/>
          </a:xfrm>
          <a:prstGeom prst="curvedConnector5">
            <a:avLst>
              <a:gd name="adj1" fmla="val 49689"/>
              <a:gd name="adj2" fmla="val 49942"/>
              <a:gd name="adj3" fmla="val 49689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75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75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76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76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76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77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77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77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78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78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78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78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79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79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79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0"/>
            <a:ext cx="4292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-spe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rg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 | larval | re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4" name=""/>
          <p:cNvCxnSpPr>
            <a:stCxn id="801" idx="4"/>
            <a:endCxn id="80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05" name=""/>
          <p:cNvGrpSpPr/>
          <p:nvPr/>
        </p:nvGrpSpPr>
        <p:grpSpPr>
          <a:xfrm>
            <a:off x="228600" y="4724280"/>
            <a:ext cx="3352320" cy="685800"/>
            <a:chOff x="228600" y="4724280"/>
            <a:chExt cx="3352320" cy="685800"/>
          </a:xfrm>
        </p:grpSpPr>
        <p:sp>
          <p:nvSpPr>
            <p:cNvPr id="806" name=""/>
            <p:cNvSpPr/>
            <p:nvPr/>
          </p:nvSpPr>
          <p:spPr>
            <a:xfrm>
              <a:off x="22860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eth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4756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rval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6880" y="4724280"/>
              <a:ext cx="91404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essiv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9" name=""/>
          <p:cNvCxnSpPr>
            <a:stCxn id="802" idx="3"/>
            <a:endCxn id="806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2" idx="4"/>
            <a:endCxn id="807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1" name=""/>
          <p:cNvCxnSpPr>
            <a:stCxn id="802" idx="5"/>
            <a:endCxn id="808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12" name=""/>
          <p:cNvSpPr/>
          <p:nvPr/>
        </p:nvSpPr>
        <p:spPr>
          <a:xfrm>
            <a:off x="988200" y="43434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16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17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20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2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824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828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831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834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837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840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2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843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846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849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852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858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0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0"/>
            <a:ext cx="42926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hal | embryonic | dominant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 | conditional 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861" idx="4"/>
            <a:endCxn id="862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65" name=""/>
          <p:cNvSpPr/>
          <p:nvPr/>
        </p:nvSpPr>
        <p:spPr>
          <a:xfrm>
            <a:off x="22860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hal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472428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minan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8" name=""/>
          <p:cNvCxnSpPr>
            <a:stCxn id="862" idx="3"/>
            <a:endCxn id="865" idx="0"/>
          </p:cNvCxnSpPr>
          <p:nvPr/>
        </p:nvCxnSpPr>
        <p:spPr>
          <a:xfrm rot="5400000">
            <a:off x="230400" y="3794400"/>
            <a:ext cx="1384920" cy="47556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9" name=""/>
          <p:cNvCxnSpPr>
            <a:stCxn id="862" idx="4"/>
            <a:endCxn id="866" idx="0"/>
          </p:cNvCxnSpPr>
          <p:nvPr/>
        </p:nvCxnSpPr>
        <p:spPr>
          <a:xfrm flipH="1" rot="16200000">
            <a:off x="1181160" y="3999960"/>
            <a:ext cx="1296000" cy="153360"/>
          </a:xfrm>
          <a:prstGeom prst="curvedConnector5">
            <a:avLst>
              <a:gd name="adj1" fmla="val 49986"/>
              <a:gd name="adj2" fmla="val 49882"/>
              <a:gd name="adj3" fmla="val 4998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0" name=""/>
          <p:cNvCxnSpPr>
            <a:stCxn id="862" idx="5"/>
            <a:endCxn id="867" idx="0"/>
          </p:cNvCxnSpPr>
          <p:nvPr/>
        </p:nvCxnSpPr>
        <p:spPr>
          <a:xfrm flipH="1" rot="16200000">
            <a:off x="2041200" y="3642120"/>
            <a:ext cx="1384920" cy="780120"/>
          </a:xfrm>
          <a:prstGeom prst="curvedConnector5">
            <a:avLst>
              <a:gd name="adj1" fmla="val 53198"/>
              <a:gd name="adj2" fmla="val 50000"/>
              <a:gd name="adj3" fmla="val 531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1522800" y="419112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2440" y="3657600"/>
            <a:ext cx="65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437200" y="365760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valu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4" name=""/>
          <p:cNvCxnSpPr>
            <a:stCxn id="862" idx="3"/>
            <a:endCxn id="875" idx="0"/>
          </p:cNvCxnSpPr>
          <p:nvPr/>
        </p:nvCxnSpPr>
        <p:spPr>
          <a:xfrm flipH="1" rot="16200000">
            <a:off x="191160" y="4308840"/>
            <a:ext cx="1994760" cy="56160"/>
          </a:xfrm>
          <a:prstGeom prst="curvedConnector5">
            <a:avLst>
              <a:gd name="adj1" fmla="val 52220"/>
              <a:gd name="adj2" fmla="val 49677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6" name=""/>
          <p:cNvCxnSpPr>
            <a:stCxn id="862" idx="5"/>
            <a:endCxn id="877" idx="0"/>
          </p:cNvCxnSpPr>
          <p:nvPr/>
        </p:nvCxnSpPr>
        <p:spPr>
          <a:xfrm flipH="1" rot="16200000">
            <a:off x="1429560" y="4253400"/>
            <a:ext cx="1994760" cy="167040"/>
          </a:xfrm>
          <a:prstGeom prst="curvedConnector5">
            <a:avLst>
              <a:gd name="adj1" fmla="val 52220"/>
              <a:gd name="adj2" fmla="val 49892"/>
              <a:gd name="adj3" fmla="val 5222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78" name=""/>
          <p:cNvSpPr/>
          <p:nvPr/>
        </p:nvSpPr>
        <p:spPr>
          <a:xfrm>
            <a:off x="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61722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itional c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0" name=""/>
          <p:cNvCxnSpPr>
            <a:stCxn id="881" idx="0"/>
            <a:endCxn id="878" idx="7"/>
          </p:cNvCxnSpPr>
          <p:nvPr/>
        </p:nvCxnSpPr>
        <p:spPr>
          <a:xfrm flipH="1" rot="16200000">
            <a:off x="1249920" y="5994000"/>
            <a:ext cx="207000" cy="283320"/>
          </a:xfrm>
          <a:prstGeom prst="curvedConnector5">
            <a:avLst>
              <a:gd name="adj1" fmla="val 32926"/>
              <a:gd name="adj2" fmla="val 50000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2" name=""/>
          <p:cNvCxnSpPr>
            <a:stCxn id="883" idx="0"/>
            <a:endCxn id="879" idx="1"/>
          </p:cNvCxnSpPr>
          <p:nvPr/>
        </p:nvCxnSpPr>
        <p:spPr>
          <a:xfrm rot="5400000">
            <a:off x="2307600" y="6038640"/>
            <a:ext cx="207000" cy="194400"/>
          </a:xfrm>
          <a:prstGeom prst="curvedConnector5">
            <a:avLst>
              <a:gd name="adj1" fmla="val 32926"/>
              <a:gd name="adj2" fmla="val 49907"/>
              <a:gd name="adj3" fmla="val 32926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884" name=""/>
          <p:cNvGrpSpPr/>
          <p:nvPr/>
        </p:nvGrpSpPr>
        <p:grpSpPr>
          <a:xfrm>
            <a:off x="990720" y="5257800"/>
            <a:ext cx="449640" cy="773280"/>
            <a:chOff x="990720" y="5257800"/>
            <a:chExt cx="449640" cy="773280"/>
          </a:xfrm>
        </p:grpSpPr>
        <p:grpSp>
          <p:nvGrpSpPr>
            <p:cNvPr id="885" name=""/>
            <p:cNvGrpSpPr/>
            <p:nvPr/>
          </p:nvGrpSpPr>
          <p:grpSpPr>
            <a:xfrm>
              <a:off x="990720" y="5257800"/>
              <a:ext cx="447480" cy="773280"/>
              <a:chOff x="990720" y="5257800"/>
              <a:chExt cx="447480" cy="773280"/>
            </a:xfrm>
          </p:grpSpPr>
          <p:sp>
            <p:nvSpPr>
              <p:cNvPr id="886" name=""/>
              <p:cNvSpPr/>
              <p:nvPr/>
            </p:nvSpPr>
            <p:spPr>
              <a:xfrm>
                <a:off x="99072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99072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5" name=""/>
            <p:cNvSpPr/>
            <p:nvPr/>
          </p:nvSpPr>
          <p:spPr>
            <a:xfrm>
              <a:off x="99144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86000" y="5257800"/>
            <a:ext cx="449640" cy="773280"/>
            <a:chOff x="2286000" y="5257800"/>
            <a:chExt cx="449640" cy="773280"/>
          </a:xfrm>
        </p:grpSpPr>
        <p:grpSp>
          <p:nvGrpSpPr>
            <p:cNvPr id="888" name=""/>
            <p:cNvGrpSpPr/>
            <p:nvPr/>
          </p:nvGrpSpPr>
          <p:grpSpPr>
            <a:xfrm>
              <a:off x="2286000" y="5257800"/>
              <a:ext cx="447480" cy="773280"/>
              <a:chOff x="2286000" y="5257800"/>
              <a:chExt cx="447480" cy="773280"/>
            </a:xfrm>
          </p:grpSpPr>
          <p:sp>
            <p:nvSpPr>
              <p:cNvPr id="889" name=""/>
              <p:cNvSpPr/>
              <p:nvPr/>
            </p:nvSpPr>
            <p:spPr>
              <a:xfrm>
                <a:off x="2286000" y="52578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2286000" y="56444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286720" y="53341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>
            <a:off x="259056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294920" y="563868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89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89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89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0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0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0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1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1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1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2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2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2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3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90720" y="1371600"/>
            <a:ext cx="1447560" cy="7621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914400" y="2819520"/>
            <a:ext cx="1676520" cy="6094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0"/>
            <a:ext cx="4292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ele phenotype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phaTub6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Tom-3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manifest 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ryonic peripheral nervous system |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ernal eff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4"/>
            <a:endCxn id="939" idx="0"/>
          </p:cNvCxnSpPr>
          <p:nvPr/>
        </p:nvCxnSpPr>
        <p:spPr>
          <a:xfrm flipH="1" rot="16200000">
            <a:off x="1389600" y="2457360"/>
            <a:ext cx="686520" cy="38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2" name=""/>
          <p:cNvSpPr/>
          <p:nvPr/>
        </p:nvSpPr>
        <p:spPr>
          <a:xfrm>
            <a:off x="685800" y="4572000"/>
            <a:ext cx="914400" cy="6858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ryonic peripher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rvous system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3" name=""/>
          <p:cNvCxnSpPr>
            <a:stCxn id="939" idx="3"/>
            <a:endCxn id="942" idx="0"/>
          </p:cNvCxnSpPr>
          <p:nvPr/>
        </p:nvCxnSpPr>
        <p:spPr>
          <a:xfrm rot="5400000">
            <a:off x="535320" y="3947040"/>
            <a:ext cx="1232280" cy="18360"/>
          </a:xfrm>
          <a:prstGeom prst="curvedConnector5">
            <a:avLst>
              <a:gd name="adj1" fmla="val 53594"/>
              <a:gd name="adj2" fmla="val 50000"/>
              <a:gd name="adj3" fmla="val 5359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4" name=""/>
          <p:cNvSpPr/>
          <p:nvPr/>
        </p:nvSpPr>
        <p:spPr>
          <a:xfrm>
            <a:off x="226080" y="388620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abl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5" name=""/>
          <p:cNvCxnSpPr>
            <a:endCxn id="946" idx="0"/>
          </p:cNvCxnSpPr>
          <p:nvPr/>
        </p:nvCxnSpPr>
        <p:spPr>
          <a:xfrm flipH="1" rot="16200000">
            <a:off x="2283480" y="3506760"/>
            <a:ext cx="534240" cy="3783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7" name=""/>
          <p:cNvSpPr/>
          <p:nvPr/>
        </p:nvSpPr>
        <p:spPr>
          <a:xfrm>
            <a:off x="1905120" y="5486400"/>
            <a:ext cx="1752480" cy="45720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nal effect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8" name=""/>
          <p:cNvCxnSpPr>
            <a:stCxn id="949" idx="0"/>
            <a:endCxn id="947" idx="0"/>
          </p:cNvCxnSpPr>
          <p:nvPr/>
        </p:nvCxnSpPr>
        <p:spPr>
          <a:xfrm flipH="1" rot="16200000">
            <a:off x="2346120" y="5050800"/>
            <a:ext cx="826200" cy="45360"/>
          </a:xfrm>
          <a:prstGeom prst="curvedConnector5">
            <a:avLst>
              <a:gd name="adj1" fmla="val 49782"/>
              <a:gd name="adj2" fmla="val 49600"/>
              <a:gd name="adj3" fmla="val 4978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50" name=""/>
          <p:cNvGrpSpPr/>
          <p:nvPr/>
        </p:nvGrpSpPr>
        <p:grpSpPr>
          <a:xfrm>
            <a:off x="2514600" y="3886200"/>
            <a:ext cx="449640" cy="773280"/>
            <a:chOff x="2514600" y="3886200"/>
            <a:chExt cx="449640" cy="773280"/>
          </a:xfrm>
        </p:grpSpPr>
        <p:grpSp>
          <p:nvGrpSpPr>
            <p:cNvPr id="951" name=""/>
            <p:cNvGrpSpPr/>
            <p:nvPr/>
          </p:nvGrpSpPr>
          <p:grpSpPr>
            <a:xfrm>
              <a:off x="2514600" y="3886200"/>
              <a:ext cx="447480" cy="773280"/>
              <a:chOff x="2514600" y="3886200"/>
              <a:chExt cx="447480" cy="773280"/>
            </a:xfrm>
          </p:grpSpPr>
          <p:sp>
            <p:nvSpPr>
              <p:cNvPr id="952" name=""/>
              <p:cNvSpPr/>
              <p:nvPr/>
            </p:nvSpPr>
            <p:spPr>
              <a:xfrm>
                <a:off x="2514600" y="388620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2514600" y="4272840"/>
                <a:ext cx="447480" cy="38664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6" name=""/>
            <p:cNvSpPr/>
            <p:nvPr/>
          </p:nvSpPr>
          <p:spPr>
            <a:xfrm>
              <a:off x="2515320" y="3962520"/>
              <a:ext cx="4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_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2742840" y="43434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955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956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959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963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967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970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973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976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979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982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985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988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997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9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0" y="0"/>
            <a:ext cx="42926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heterozygous phenotype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X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fa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F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henotypic c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 vi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57200" y="1600200"/>
            <a:ext cx="2666880" cy="4952880"/>
            <a:chOff x="457200" y="1600200"/>
            <a:chExt cx="2666880" cy="4952880"/>
          </a:xfrm>
        </p:grpSpPr>
        <p:sp>
          <p:nvSpPr>
            <p:cNvPr id="1002" name=""/>
            <p:cNvSpPr/>
            <p:nvPr/>
          </p:nvSpPr>
          <p:spPr>
            <a:xfrm>
              <a:off x="1143000" y="2971800"/>
              <a:ext cx="1447920" cy="7621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BX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faf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Arial"/>
                </a:rPr>
                <a:t>F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66680" y="4419720"/>
              <a:ext cx="1676520" cy="60948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4" name=""/>
            <p:cNvCxnSpPr>
              <a:stCxn id="1002" idx="4"/>
              <a:endCxn id="1003" idx="0"/>
            </p:cNvCxnSpPr>
            <p:nvPr/>
          </p:nvCxnSpPr>
          <p:spPr>
            <a:xfrm flipH="1" rot="16200000">
              <a:off x="1542960" y="4057200"/>
              <a:ext cx="686520" cy="38880"/>
            </a:xfrm>
            <a:prstGeom prst="curvedConnector5">
              <a:avLst>
                <a:gd name="adj1" fmla="val 50000"/>
                <a:gd name="adj2" fmla="val 49532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5" name=""/>
            <p:cNvSpPr/>
            <p:nvPr/>
          </p:nvSpPr>
          <p:spPr>
            <a:xfrm>
              <a:off x="838080" y="5867280"/>
              <a:ext cx="914400" cy="685800"/>
            </a:xfrm>
            <a:prstGeom prst="ellips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vterm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sible”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06" name=""/>
            <p:cNvCxnSpPr>
              <a:stCxn id="1003" idx="4"/>
              <a:endCxn id="1005" idx="0"/>
            </p:cNvCxnSpPr>
            <p:nvPr/>
          </p:nvCxnSpPr>
          <p:spPr>
            <a:xfrm rot="5400000">
              <a:off x="1180440" y="5143320"/>
              <a:ext cx="838800" cy="610560"/>
            </a:xfrm>
            <a:prstGeom prst="curvedConnector5">
              <a:avLst>
                <a:gd name="adj1" fmla="val 49978"/>
                <a:gd name="adj2" fmla="val 49970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7" name=""/>
            <p:cNvSpPr/>
            <p:nvPr/>
          </p:nvSpPr>
          <p:spPr>
            <a:xfrm>
              <a:off x="837000" y="5334120"/>
              <a:ext cx="65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5720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BX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209680" y="16002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FO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0" name=""/>
            <p:cNvCxnSpPr>
              <a:stCxn id="1008" idx="4"/>
              <a:endCxn id="1002" idx="0"/>
            </p:cNvCxnSpPr>
            <p:nvPr/>
          </p:nvCxnSpPr>
          <p:spPr>
            <a:xfrm flipH="1" rot="16200000">
              <a:off x="971640" y="2076120"/>
              <a:ext cx="838800" cy="953280"/>
            </a:xfrm>
            <a:prstGeom prst="curvedConnector5">
              <a:avLst>
                <a:gd name="adj1" fmla="val 49978"/>
                <a:gd name="adj2" fmla="val 49981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1" name=""/>
            <p:cNvCxnSpPr>
              <a:stCxn id="1009" idx="4"/>
              <a:endCxn id="1002" idx="0"/>
            </p:cNvCxnSpPr>
            <p:nvPr/>
          </p:nvCxnSpPr>
          <p:spPr>
            <a:xfrm rot="5400000">
              <a:off x="1847160" y="2152800"/>
              <a:ext cx="838800" cy="800640"/>
            </a:xfrm>
            <a:prstGeom prst="curvedConnector5">
              <a:avLst>
                <a:gd name="adj1" fmla="val 49978"/>
                <a:gd name="adj2" fmla="val 49977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"/>
          <p:cNvGrpSpPr/>
          <p:nvPr/>
        </p:nvGrpSpPr>
        <p:grpSpPr>
          <a:xfrm>
            <a:off x="3695760" y="228600"/>
            <a:ext cx="5142960" cy="6400800"/>
            <a:chOff x="3695760" y="228600"/>
            <a:chExt cx="5142960" cy="6400800"/>
          </a:xfrm>
        </p:grpSpPr>
        <p:grpSp>
          <p:nvGrpSpPr>
            <p:cNvPr id="101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101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101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9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5486760" y="1371600"/>
              <a:ext cx="914040" cy="1523880"/>
              <a:chOff x="5486760" y="1371600"/>
              <a:chExt cx="914040" cy="1523880"/>
            </a:xfrm>
          </p:grpSpPr>
          <p:sp>
            <p:nvSpPr>
              <p:cNvPr id="1021" name=""/>
              <p:cNvSpPr/>
              <p:nvPr/>
            </p:nvSpPr>
            <p:spPr>
              <a:xfrm>
                <a:off x="6009120" y="1371600"/>
                <a:ext cx="0" cy="152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009120" y="2895480"/>
                <a:ext cx="39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5486760" y="1371600"/>
                <a:ext cx="52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4191120" y="5867280"/>
              <a:ext cx="1827000" cy="533520"/>
              <a:chOff x="4191120" y="5867280"/>
              <a:chExt cx="1827000" cy="533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4191120" y="586728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191120" y="640080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6019920" y="5486400"/>
              <a:ext cx="2818800" cy="1143000"/>
              <a:chOff x="6019920" y="5486400"/>
              <a:chExt cx="2818800" cy="1143000"/>
            </a:xfrm>
          </p:grpSpPr>
          <p:sp>
            <p:nvSpPr>
              <p:cNvPr id="1028" name=""/>
              <p:cNvSpPr/>
              <p:nvPr/>
            </p:nvSpPr>
            <p:spPr>
              <a:xfrm>
                <a:off x="6019920" y="5486400"/>
                <a:ext cx="281880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**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19920" y="5486400"/>
                <a:ext cx="2818800" cy="1969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8153280" y="2743920"/>
              <a:ext cx="380880" cy="2742480"/>
              <a:chOff x="8153280" y="2743920"/>
              <a:chExt cx="380880" cy="27424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8534160" y="2743920"/>
                <a:ext cx="0" cy="274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8153280" y="274392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4572000" y="3277080"/>
              <a:ext cx="1827000" cy="1371240"/>
              <a:chOff x="4572000" y="3277080"/>
              <a:chExt cx="1827000" cy="1371240"/>
            </a:xfrm>
          </p:grpSpPr>
          <p:sp>
            <p:nvSpPr>
              <p:cNvPr id="1034" name=""/>
              <p:cNvSpPr/>
              <p:nvPr/>
            </p:nvSpPr>
            <p:spPr>
              <a:xfrm flipV="1">
                <a:off x="4572000" y="327708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572000" y="3277080"/>
                <a:ext cx="182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876920" y="3733920"/>
              <a:ext cx="1522440" cy="914400"/>
              <a:chOff x="4876920" y="3733920"/>
              <a:chExt cx="1522440" cy="914400"/>
            </a:xfrm>
          </p:grpSpPr>
          <p:sp>
            <p:nvSpPr>
              <p:cNvPr id="1037" name=""/>
              <p:cNvSpPr/>
              <p:nvPr/>
            </p:nvSpPr>
            <p:spPr>
              <a:xfrm flipV="1">
                <a:off x="4876920" y="3733920"/>
                <a:ext cx="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876920" y="3733920"/>
                <a:ext cx="1522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5105520" y="3962160"/>
              <a:ext cx="1293840" cy="685800"/>
              <a:chOff x="5105520" y="3962160"/>
              <a:chExt cx="1293840" cy="685800"/>
            </a:xfrm>
          </p:grpSpPr>
          <p:sp>
            <p:nvSpPr>
              <p:cNvPr id="1040" name=""/>
              <p:cNvSpPr/>
              <p:nvPr/>
            </p:nvSpPr>
            <p:spPr>
              <a:xfrm flipV="1">
                <a:off x="5105520" y="3962160"/>
                <a:ext cx="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05520" y="396216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6400800" y="1828800"/>
              <a:ext cx="1752480" cy="2209680"/>
              <a:chOff x="6400800" y="1828800"/>
              <a:chExt cx="1752480" cy="2209680"/>
            </a:xfrm>
          </p:grpSpPr>
          <p:sp>
            <p:nvSpPr>
              <p:cNvPr id="1043" name=""/>
              <p:cNvSpPr/>
              <p:nvPr/>
            </p:nvSpPr>
            <p:spPr>
              <a:xfrm>
                <a:off x="6400800" y="1828800"/>
                <a:ext cx="175248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statemen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bxref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observabl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ttr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alu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say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400800" y="1828800"/>
                <a:ext cx="175248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4267080" y="3048120"/>
              <a:ext cx="2131560" cy="1599840"/>
              <a:chOff x="4267080" y="3048120"/>
              <a:chExt cx="2131560" cy="1599840"/>
            </a:xfrm>
          </p:grpSpPr>
          <p:sp>
            <p:nvSpPr>
              <p:cNvPr id="1046" name=""/>
              <p:cNvSpPr/>
              <p:nvPr/>
            </p:nvSpPr>
            <p:spPr>
              <a:xfrm flipV="1">
                <a:off x="4267080" y="3048120"/>
                <a:ext cx="0" cy="159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267080" y="3048120"/>
                <a:ext cx="2131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6553080" y="4038120"/>
              <a:ext cx="1295640" cy="381600"/>
              <a:chOff x="6553080" y="4038120"/>
              <a:chExt cx="1295640" cy="38160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6553080" y="4038480"/>
                <a:ext cx="1294200" cy="381240"/>
                <a:chOff x="6553080" y="4038480"/>
                <a:chExt cx="1294200" cy="381240"/>
              </a:xfrm>
            </p:grpSpPr>
            <p:sp>
              <p:nvSpPr>
                <p:cNvPr id="1050" name=""/>
                <p:cNvSpPr/>
                <p:nvPr/>
              </p:nvSpPr>
              <p:spPr>
                <a:xfrm>
                  <a:off x="6553080" y="403848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553080" y="4419720"/>
                  <a:ext cx="1294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 flipV="1">
                <a:off x="7848720" y="403812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6324480" y="4419720"/>
              <a:ext cx="175284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6477120" y="228600"/>
              <a:ext cx="1752480" cy="1143000"/>
              <a:chOff x="6477120" y="228600"/>
              <a:chExt cx="1752480" cy="1143000"/>
            </a:xfrm>
          </p:grpSpPr>
          <p:sp>
            <p:nvSpPr>
              <p:cNvPr id="1055" name=""/>
              <p:cNvSpPr/>
              <p:nvPr/>
            </p:nvSpPr>
            <p:spPr>
              <a:xfrm>
                <a:off x="6477120" y="228600"/>
                <a:ext cx="1752480" cy="11430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endesc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77120" y="228600"/>
                <a:ext cx="1752480" cy="19656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des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 flipH="1">
              <a:off x="5486400" y="838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1059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80880" y="228600"/>
            <a:ext cx="3581640" cy="4723920"/>
            <a:chOff x="380880" y="228600"/>
            <a:chExt cx="3581640" cy="4723920"/>
          </a:xfrm>
        </p:grpSpPr>
        <p:grpSp>
          <p:nvGrpSpPr>
            <p:cNvPr id="106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106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107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1074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1077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1081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3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8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7"/>
            <a:endCxn id="46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9" idx="7"/>
            <a:endCxn id="46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7"/>
            <a:endCxn id="46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3" idx="5"/>
            <a:endCxn id="47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6"/>
            <a:endCxn id="47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1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0"/>
            <a:endCxn id="46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3" idx="1"/>
            <a:endCxn id="49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59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9" idx="7"/>
            <a:endCxn id="53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5"/>
            <a:endCxn id="47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62" idx="7"/>
            <a:endCxn id="51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2"/>
            <a:endCxn id="53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5"/>
            <a:endCxn id="47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6" idx="1"/>
            <a:endCxn id="53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0"/>
            <a:endCxn id="51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70" idx="6"/>
            <a:endCxn id="51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70" idx="3"/>
            <a:endCxn id="53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89" name=""/>
          <p:cNvCxnSpPr>
            <a:stCxn id="1090" idx="2"/>
            <a:endCxn id="1091" idx="2"/>
          </p:cNvCxnSpPr>
          <p:nvPr/>
        </p:nvCxnSpPr>
        <p:spPr>
          <a:xfrm flipH="1" flipV="1" rot="5400000">
            <a:off x="5393160" y="2666520"/>
            <a:ext cx="73440" cy="2245320"/>
          </a:xfrm>
          <a:prstGeom prst="curvedConnector5">
            <a:avLst>
              <a:gd name="adj1" fmla="val -312807"/>
              <a:gd name="adj2" fmla="val 28351"/>
              <a:gd name="adj3" fmla="val -31280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2" name=""/>
          <p:cNvCxnSpPr>
            <a:stCxn id="1093" idx="6"/>
            <a:endCxn id="1090" idx="2"/>
          </p:cNvCxnSpPr>
          <p:nvPr/>
        </p:nvCxnSpPr>
        <p:spPr>
          <a:xfrm>
            <a:off x="2296800" y="3753000"/>
            <a:ext cx="2012040" cy="73440"/>
          </a:xfrm>
          <a:prstGeom prst="curvedConnector5">
            <a:avLst>
              <a:gd name="adj1" fmla="val 42448"/>
              <a:gd name="adj2" fmla="val 206403"/>
              <a:gd name="adj3" fmla="val 4244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4" name=""/>
          <p:cNvSpPr/>
          <p:nvPr/>
        </p:nvSpPr>
        <p:spPr>
          <a:xfrm>
            <a:off x="152280" y="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tic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wing phenotype that is enhanced by dp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yBase Curation for w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Helvetica-Bold"/>
              </a:rPr>
              <a:t>visible, enhanceable { dpp[1] 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0666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74880" y="4757760"/>
            <a:ext cx="1425600" cy="51768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enstat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6" name=""/>
          <p:cNvCxnSpPr>
            <a:stCxn id="1093" idx="4"/>
            <a:endCxn id="1095" idx="0"/>
          </p:cNvCxnSpPr>
          <p:nvPr/>
        </p:nvCxnSpPr>
        <p:spPr>
          <a:xfrm flipH="1" rot="16200000">
            <a:off x="1344600" y="4414320"/>
            <a:ext cx="681840" cy="5760"/>
          </a:xfrm>
          <a:prstGeom prst="curvedConnector5">
            <a:avLst>
              <a:gd name="adj1" fmla="val 49867"/>
              <a:gd name="adj2" fmla="val 46666"/>
              <a:gd name="adj3" fmla="val 4986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7" name=""/>
          <p:cNvSpPr/>
          <p:nvPr/>
        </p:nvSpPr>
        <p:spPr>
          <a:xfrm>
            <a:off x="781200" y="5987880"/>
            <a:ext cx="777600" cy="58284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sible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8" name=""/>
          <p:cNvCxnSpPr>
            <a:stCxn id="1095" idx="4"/>
            <a:endCxn id="1097" idx="0"/>
          </p:cNvCxnSpPr>
          <p:nvPr/>
        </p:nvCxnSpPr>
        <p:spPr>
          <a:xfrm rot="5400000">
            <a:off x="1072080" y="5372280"/>
            <a:ext cx="712800" cy="518400"/>
          </a:xfrm>
          <a:prstGeom prst="curvedConnector5">
            <a:avLst>
              <a:gd name="adj1" fmla="val 49974"/>
              <a:gd name="adj2" fmla="val 49965"/>
              <a:gd name="adj3" fmla="val 4997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9" name=""/>
          <p:cNvSpPr/>
          <p:nvPr/>
        </p:nvSpPr>
        <p:spPr>
          <a:xfrm>
            <a:off x="2969640" y="342900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57200" y="2362320"/>
            <a:ext cx="777960" cy="452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1" name=""/>
          <p:cNvCxnSpPr>
            <a:stCxn id="1100" idx="4"/>
            <a:endCxn id="1093" idx="0"/>
          </p:cNvCxnSpPr>
          <p:nvPr/>
        </p:nvCxnSpPr>
        <p:spPr>
          <a:xfrm flipH="1" rot="16200000">
            <a:off x="956880" y="2702880"/>
            <a:ext cx="615240" cy="837360"/>
          </a:xfrm>
          <a:prstGeom prst="curvedConnector5">
            <a:avLst>
              <a:gd name="adj1" fmla="val 49824"/>
              <a:gd name="adj2" fmla="val 49978"/>
              <a:gd name="adj3" fmla="val 4982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91" name=""/>
          <p:cNvSpPr/>
          <p:nvPr/>
        </p:nvSpPr>
        <p:spPr>
          <a:xfrm>
            <a:off x="6553080" y="3429000"/>
            <a:ext cx="1230480" cy="64764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pp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418520" y="2263680"/>
            <a:ext cx="777600" cy="452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p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stCxn id="1102" idx="4"/>
            <a:endCxn id="1091" idx="0"/>
          </p:cNvCxnSpPr>
          <p:nvPr/>
        </p:nvCxnSpPr>
        <p:spPr>
          <a:xfrm rot="5400000">
            <a:off x="7130880" y="2753280"/>
            <a:ext cx="713520" cy="639000"/>
          </a:xfrm>
          <a:prstGeom prst="curvedConnector5">
            <a:avLst>
              <a:gd name="adj1" fmla="val 49873"/>
              <a:gd name="adj2" fmla="val 50000"/>
              <a:gd name="adj3" fmla="val 4987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04" name=""/>
          <p:cNvSpPr/>
          <p:nvPr/>
        </p:nvSpPr>
        <p:spPr>
          <a:xfrm>
            <a:off x="3962520" y="5257800"/>
            <a:ext cx="777600" cy="582480"/>
          </a:xfrm>
          <a:prstGeom prst="ellipse">
            <a:avLst/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te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s”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3124080"/>
            <a:ext cx="825120" cy="1218600"/>
            <a:chOff x="3962520" y="3124080"/>
            <a:chExt cx="825120" cy="1218600"/>
          </a:xfrm>
        </p:grpSpPr>
        <p:grpSp>
          <p:nvGrpSpPr>
            <p:cNvPr id="1106" name=""/>
            <p:cNvGrpSpPr/>
            <p:nvPr/>
          </p:nvGrpSpPr>
          <p:grpSpPr>
            <a:xfrm>
              <a:off x="3962520" y="3124080"/>
              <a:ext cx="825120" cy="1218600"/>
              <a:chOff x="3962520" y="3124080"/>
              <a:chExt cx="825120" cy="121860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62520" y="312408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3962520" y="3732840"/>
                <a:ext cx="825120" cy="609480"/>
              </a:xfrm>
              <a:prstGeom prst="triangle">
                <a:avLst>
                  <a:gd name="adj" fmla="val 50000"/>
                </a:avLst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0" name=""/>
            <p:cNvSpPr/>
            <p:nvPr/>
          </p:nvSpPr>
          <p:spPr>
            <a:xfrm>
              <a:off x="4007160" y="3244320"/>
              <a:ext cx="6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_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9" name=""/>
          <p:cNvCxnSpPr>
            <a:stCxn id="1104" idx="0"/>
            <a:endCxn id="1108" idx="0"/>
          </p:cNvCxnSpPr>
          <p:nvPr/>
        </p:nvCxnSpPr>
        <p:spPr>
          <a:xfrm flipH="1" flipV="1" rot="5400000">
            <a:off x="3904920" y="4789080"/>
            <a:ext cx="915120" cy="23040"/>
          </a:xfrm>
          <a:prstGeom prst="curvedConnector5">
            <a:avLst>
              <a:gd name="adj1" fmla="val 49980"/>
              <a:gd name="adj2" fmla="val 49206"/>
              <a:gd name="adj3" fmla="val 4998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4874760" y="3429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jectgc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13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24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6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27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30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2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33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5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36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0" name=""/>
          <p:cNvCxnSpPr>
            <a:stCxn id="1121" idx="6"/>
            <a:endCxn id="1125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21" idx="6"/>
            <a:endCxn id="1128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2" name=""/>
          <p:cNvCxnSpPr>
            <a:stCxn id="1121" idx="6"/>
            <a:endCxn id="1131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21" idx="6"/>
            <a:endCxn id="1137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21" idx="6"/>
            <a:endCxn id="1134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5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6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7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1893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809880" y="3505320"/>
            <a:ext cx="3614400" cy="1981080"/>
            <a:chOff x="3809880" y="3505320"/>
            <a:chExt cx="3614400" cy="1981080"/>
          </a:xfrm>
        </p:grpSpPr>
        <p:sp>
          <p:nvSpPr>
            <p:cNvPr id="1151" name=""/>
            <p:cNvSpPr/>
            <p:nvPr/>
          </p:nvSpPr>
          <p:spPr>
            <a:xfrm>
              <a:off x="4334400" y="4191120"/>
              <a:ext cx="308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1..9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sidue_info = genotype_sequence or 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09880" y="3505320"/>
              <a:ext cx="304920" cy="198108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/>
          <p:nvPr/>
        </p:nvSpPr>
        <p:spPr>
          <a:xfrm>
            <a:off x="152280" y="0"/>
            <a:ext cx="8991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ing hapmap genotype data in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hris Mungall and Mummi Thoriss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veral hundred thousand human SNPs  (dbSNP rs#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x samples (Coriell cell li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enotypes for each of the 90 samples at a given SNP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57200" y="2743200"/>
            <a:ext cx="1828800" cy="1573200"/>
            <a:chOff x="457200" y="2743200"/>
            <a:chExt cx="1828800" cy="1573200"/>
          </a:xfrm>
        </p:grpSpPr>
        <p:sp>
          <p:nvSpPr>
            <p:cNvPr id="1155" name=""/>
            <p:cNvSpPr/>
            <p:nvPr/>
          </p:nvSpPr>
          <p:spPr>
            <a:xfrm>
              <a:off x="457200" y="27432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09480" y="28954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62120" y="30481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14400" y="32004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066680" y="33526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219320" y="35053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371600" y="365760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523880" y="3809880"/>
              <a:ext cx="609840" cy="35424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76520" y="3962520"/>
              <a:ext cx="609480" cy="35388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150120" y="22096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quence_vari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2819520" y="3048120"/>
            <a:ext cx="304560" cy="380520"/>
            <a:chOff x="2819520" y="3048120"/>
            <a:chExt cx="304560" cy="380520"/>
          </a:xfrm>
        </p:grpSpPr>
        <p:sp>
          <p:nvSpPr>
            <p:cNvPr id="1166" name=""/>
            <p:cNvSpPr/>
            <p:nvPr/>
          </p:nvSpPr>
          <p:spPr>
            <a:xfrm>
              <a:off x="2819520" y="304812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2819520" y="3237840"/>
              <a:ext cx="304560" cy="190440"/>
            </a:xfrm>
            <a:prstGeom prst="triangle">
              <a:avLst>
                <a:gd name="adj" fmla="val 50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124080" y="3429000"/>
            <a:ext cx="304920" cy="380520"/>
            <a:chOff x="3124080" y="3429000"/>
            <a:chExt cx="304920" cy="380520"/>
          </a:xfrm>
        </p:grpSpPr>
        <p:sp>
          <p:nvSpPr>
            <p:cNvPr id="1169" name=""/>
            <p:cNvSpPr/>
            <p:nvPr/>
          </p:nvSpPr>
          <p:spPr>
            <a:xfrm>
              <a:off x="3124080" y="342900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3124080" y="3618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3276720" y="3886200"/>
            <a:ext cx="304560" cy="380520"/>
            <a:chOff x="3276720" y="3886200"/>
            <a:chExt cx="304560" cy="380520"/>
          </a:xfrm>
        </p:grpSpPr>
        <p:sp>
          <p:nvSpPr>
            <p:cNvPr id="1172" name=""/>
            <p:cNvSpPr/>
            <p:nvPr/>
          </p:nvSpPr>
          <p:spPr>
            <a:xfrm>
              <a:off x="3276720" y="38862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3276720" y="40759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2819520" y="4800600"/>
            <a:ext cx="304560" cy="380520"/>
            <a:chOff x="2819520" y="4800600"/>
            <a:chExt cx="304560" cy="380520"/>
          </a:xfrm>
        </p:grpSpPr>
        <p:sp>
          <p:nvSpPr>
            <p:cNvPr id="1175" name=""/>
            <p:cNvSpPr/>
            <p:nvPr/>
          </p:nvSpPr>
          <p:spPr>
            <a:xfrm>
              <a:off x="2819520" y="480060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2819520" y="4990320"/>
              <a:ext cx="30456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3124080" y="4419720"/>
            <a:ext cx="304920" cy="380520"/>
            <a:chOff x="3124080" y="4419720"/>
            <a:chExt cx="304920" cy="380520"/>
          </a:xfrm>
        </p:grpSpPr>
        <p:sp>
          <p:nvSpPr>
            <p:cNvPr id="1178" name=""/>
            <p:cNvSpPr/>
            <p:nvPr/>
          </p:nvSpPr>
          <p:spPr>
            <a:xfrm>
              <a:off x="3124080" y="441972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3124080" y="4609440"/>
              <a:ext cx="304920" cy="190440"/>
            </a:xfrm>
            <a:prstGeom prst="triangle">
              <a:avLst>
                <a:gd name="adj" fmla="val 50000"/>
              </a:avLst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0" name=""/>
          <p:cNvSpPr/>
          <p:nvPr/>
        </p:nvSpPr>
        <p:spPr>
          <a:xfrm>
            <a:off x="2973240" y="51055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09920" y="2514600"/>
            <a:ext cx="154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2" name=""/>
          <p:cNvCxnSpPr>
            <a:stCxn id="1163" idx="6"/>
            <a:endCxn id="1167" idx="2"/>
          </p:cNvCxnSpPr>
          <p:nvPr/>
        </p:nvCxnSpPr>
        <p:spPr>
          <a:xfrm flipV="1">
            <a:off x="2286000" y="3237840"/>
            <a:ext cx="534240" cy="90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63" idx="6"/>
            <a:endCxn id="1170" idx="2"/>
          </p:cNvCxnSpPr>
          <p:nvPr/>
        </p:nvCxnSpPr>
        <p:spPr>
          <a:xfrm flipV="1">
            <a:off x="2286000" y="3618720"/>
            <a:ext cx="838800" cy="52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63" idx="6"/>
            <a:endCxn id="1173" idx="2"/>
          </p:cNvCxnSpPr>
          <p:nvPr/>
        </p:nvCxnSpPr>
        <p:spPr>
          <a:xfrm flipV="1">
            <a:off x="2286000" y="4075920"/>
            <a:ext cx="991440" cy="6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63" idx="6"/>
            <a:endCxn id="1179" idx="2"/>
          </p:cNvCxnSpPr>
          <p:nvPr/>
        </p:nvCxnSpPr>
        <p:spPr>
          <a:xfrm>
            <a:off x="2286000" y="4140000"/>
            <a:ext cx="838800" cy="47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3" idx="6"/>
            <a:endCxn id="1176" idx="2"/>
          </p:cNvCxnSpPr>
          <p:nvPr/>
        </p:nvCxnSpPr>
        <p:spPr>
          <a:xfrm>
            <a:off x="2286000" y="4140000"/>
            <a:ext cx="534240" cy="85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7" name=""/>
          <p:cNvSpPr/>
          <p:nvPr/>
        </p:nvSpPr>
        <p:spPr>
          <a:xfrm>
            <a:off x="5334120" y="2895480"/>
            <a:ext cx="1981080" cy="0"/>
          </a:xfrm>
          <a:prstGeom prst="line">
            <a:avLst/>
          </a:prstGeom>
          <a:ln w="54000">
            <a:solidFill>
              <a:srgbClr val="8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8" name=""/>
          <p:cNvCxnSpPr/>
          <p:nvPr/>
        </p:nvCxnSpPr>
        <p:spPr>
          <a:xfrm flipV="1">
            <a:off x="3124080" y="2932920"/>
            <a:ext cx="33552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9" name=""/>
          <p:cNvSpPr/>
          <p:nvPr/>
        </p:nvSpPr>
        <p:spPr>
          <a:xfrm>
            <a:off x="2437920" y="22096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7600" y="22096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romosome_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012920" y="281952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rcfeature_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3122640" y="3381480"/>
            <a:ext cx="5958720" cy="2183760"/>
            <a:chOff x="3122640" y="3381480"/>
            <a:chExt cx="5958720" cy="2183760"/>
          </a:xfrm>
        </p:grpSpPr>
        <p:sp>
          <p:nvSpPr>
            <p:cNvPr id="1193" name=""/>
            <p:cNvSpPr/>
            <p:nvPr/>
          </p:nvSpPr>
          <p:spPr>
            <a:xfrm>
              <a:off x="4191120" y="36576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1120" y="41148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1120" y="45720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91120" y="5029200"/>
              <a:ext cx="1981080" cy="0"/>
            </a:xfrm>
            <a:prstGeom prst="line">
              <a:avLst/>
            </a:prstGeom>
            <a:ln w="540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97" name=""/>
            <p:cNvCxnSpPr>
              <a:stCxn id="1170" idx="4"/>
              <a:endCxn id="1193" idx="0"/>
            </p:cNvCxnSpPr>
            <p:nvPr/>
          </p:nvCxnSpPr>
          <p:spPr>
            <a:xfrm flipH="1" rot="16200000">
              <a:off x="3803400" y="3242160"/>
              <a:ext cx="11880" cy="764280"/>
            </a:xfrm>
            <a:prstGeom prst="curvedConnector5">
              <a:avLst>
                <a:gd name="adj1" fmla="val -2056250"/>
                <a:gd name="adj2" fmla="val 5000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8" name=""/>
            <p:cNvCxnSpPr>
              <a:stCxn id="1173" idx="4"/>
              <a:endCxn id="1194" idx="0"/>
            </p:cNvCxnSpPr>
            <p:nvPr/>
          </p:nvCxnSpPr>
          <p:spPr>
            <a:xfrm flipH="1" rot="16200000">
              <a:off x="3879720" y="3775320"/>
              <a:ext cx="11880" cy="612000"/>
            </a:xfrm>
            <a:prstGeom prst="curvedConnector5">
              <a:avLst>
                <a:gd name="adj1" fmla="val -2056250"/>
                <a:gd name="adj2" fmla="val 49970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9" name=""/>
            <p:cNvCxnSpPr>
              <a:stCxn id="1179" idx="4"/>
              <a:endCxn id="1195" idx="0"/>
            </p:cNvCxnSpPr>
            <p:nvPr/>
          </p:nvCxnSpPr>
          <p:spPr>
            <a:xfrm flipH="1" flipV="1" rot="5400000">
              <a:off x="3776400" y="4195080"/>
              <a:ext cx="65520" cy="764280"/>
            </a:xfrm>
            <a:prstGeom prst="curvedConnector5">
              <a:avLst>
                <a:gd name="adj1" fmla="val 353038"/>
                <a:gd name="adj2" fmla="val 50000"/>
                <a:gd name="adj3" fmla="val 35303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0" name=""/>
            <p:cNvCxnSpPr>
              <a:stCxn id="1176" idx="4"/>
              <a:endCxn id="1196" idx="0"/>
            </p:cNvCxnSpPr>
            <p:nvPr/>
          </p:nvCxnSpPr>
          <p:spPr>
            <a:xfrm flipH="1" rot="16200000">
              <a:off x="3651120" y="4461120"/>
              <a:ext cx="11880" cy="1069200"/>
            </a:xfrm>
            <a:prstGeom prst="curvedConnector5">
              <a:avLst>
                <a:gd name="adj1" fmla="val -2056250"/>
                <a:gd name="adj2" fmla="val 49983"/>
                <a:gd name="adj3" fmla="val -205625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01" name=""/>
            <p:cNvSpPr/>
            <p:nvPr/>
          </p:nvSpPr>
          <p:spPr>
            <a:xfrm>
              <a:off x="6477120" y="3505320"/>
              <a:ext cx="228600" cy="16761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3560 h 1676160"/>
                <a:gd name="textAreaBottom" fmla="*/ 1632600 h 167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931800" y="3886200"/>
              <a:ext cx="214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hromosome_arm fe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or each 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59240" y="510552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tic module desig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Mungall  (BDGP - Berkel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glei Zh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brey de Grey (FlyBase -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elbart (PI, Fly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 Letovsky (FlyBase - Harv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yBase Curators at Cambridge and 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tt, Lincoln, Everybody who’s helped / com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75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78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81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84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87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90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93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94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98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86760" y="1371600"/>
            <a:ext cx="914040" cy="1523880"/>
            <a:chOff x="5486760" y="1371600"/>
            <a:chExt cx="914040" cy="1523880"/>
          </a:xfrm>
        </p:grpSpPr>
        <p:sp>
          <p:nvSpPr>
            <p:cNvPr id="102" name=""/>
            <p:cNvSpPr/>
            <p:nvPr/>
          </p:nvSpPr>
          <p:spPr>
            <a:xfrm>
              <a:off x="6009120" y="137160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09120" y="2895480"/>
              <a:ext cx="39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86760" y="1371600"/>
              <a:ext cx="52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191120" y="5867280"/>
            <a:ext cx="1827000" cy="533520"/>
            <a:chOff x="4191120" y="5867280"/>
            <a:chExt cx="1827000" cy="533520"/>
          </a:xfrm>
        </p:grpSpPr>
        <p:sp>
          <p:nvSpPr>
            <p:cNvPr id="106" name=""/>
            <p:cNvSpPr/>
            <p:nvPr/>
          </p:nvSpPr>
          <p:spPr>
            <a:xfrm>
              <a:off x="4191120" y="5867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640080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19920" y="5486400"/>
            <a:ext cx="2818800" cy="1143000"/>
            <a:chOff x="6019920" y="5486400"/>
            <a:chExt cx="2818800" cy="1143000"/>
          </a:xfrm>
        </p:grpSpPr>
        <p:sp>
          <p:nvSpPr>
            <p:cNvPr id="109" name=""/>
            <p:cNvSpPr/>
            <p:nvPr/>
          </p:nvSpPr>
          <p:spPr>
            <a:xfrm>
              <a:off x="6019920" y="5486400"/>
              <a:ext cx="281880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9920" y="5486400"/>
              <a:ext cx="2818800" cy="19692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_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8153280" y="2743920"/>
            <a:ext cx="380880" cy="2742480"/>
            <a:chOff x="8153280" y="2743920"/>
            <a:chExt cx="380880" cy="2742480"/>
          </a:xfrm>
        </p:grpSpPr>
        <p:sp>
          <p:nvSpPr>
            <p:cNvPr id="112" name=""/>
            <p:cNvSpPr/>
            <p:nvPr/>
          </p:nvSpPr>
          <p:spPr>
            <a:xfrm flipV="1">
              <a:off x="8534160" y="2743920"/>
              <a:ext cx="0" cy="274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8153280" y="2743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886200" y="1676520"/>
            <a:ext cx="1295280" cy="457200"/>
            <a:chOff x="3886200" y="1676520"/>
            <a:chExt cx="1295280" cy="457200"/>
          </a:xfrm>
        </p:grpSpPr>
        <p:grpSp>
          <p:nvGrpSpPr>
            <p:cNvPr id="115" name=""/>
            <p:cNvGrpSpPr/>
            <p:nvPr/>
          </p:nvGrpSpPr>
          <p:grpSpPr>
            <a:xfrm>
              <a:off x="3886200" y="1676520"/>
              <a:ext cx="1293840" cy="457200"/>
              <a:chOff x="3886200" y="1676520"/>
              <a:chExt cx="1293840" cy="457200"/>
            </a:xfrm>
          </p:grpSpPr>
          <p:sp>
            <p:nvSpPr>
              <p:cNvPr id="116" name=""/>
              <p:cNvSpPr/>
              <p:nvPr/>
            </p:nvSpPr>
            <p:spPr>
              <a:xfrm>
                <a:off x="388620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886200" y="2133720"/>
                <a:ext cx="129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5181480" y="1676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695760" y="2133720"/>
            <a:ext cx="175248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contex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0" y="3277080"/>
            <a:ext cx="1827000" cy="1371240"/>
            <a:chOff x="4572000" y="3277080"/>
            <a:chExt cx="1827000" cy="1371240"/>
          </a:xfrm>
        </p:grpSpPr>
        <p:sp>
          <p:nvSpPr>
            <p:cNvPr id="121" name=""/>
            <p:cNvSpPr/>
            <p:nvPr/>
          </p:nvSpPr>
          <p:spPr>
            <a:xfrm flipV="1">
              <a:off x="4572000" y="3277080"/>
              <a:ext cx="0" cy="137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277080"/>
              <a:ext cx="182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876920" y="3733920"/>
            <a:ext cx="1522440" cy="914400"/>
            <a:chOff x="4876920" y="3733920"/>
            <a:chExt cx="1522440" cy="914400"/>
          </a:xfrm>
        </p:grpSpPr>
        <p:sp>
          <p:nvSpPr>
            <p:cNvPr id="124" name=""/>
            <p:cNvSpPr/>
            <p:nvPr/>
          </p:nvSpPr>
          <p:spPr>
            <a:xfrm flipV="1">
              <a:off x="4876920" y="37339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6920" y="3733920"/>
              <a:ext cx="1522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05520" y="3962160"/>
            <a:ext cx="1293840" cy="685800"/>
            <a:chOff x="5105520" y="3962160"/>
            <a:chExt cx="1293840" cy="685800"/>
          </a:xfrm>
        </p:grpSpPr>
        <p:sp>
          <p:nvSpPr>
            <p:cNvPr id="127" name=""/>
            <p:cNvSpPr/>
            <p:nvPr/>
          </p:nvSpPr>
          <p:spPr>
            <a:xfrm flipV="1">
              <a:off x="5105520" y="39621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3962160"/>
              <a:ext cx="129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400800" y="1828800"/>
            <a:ext cx="1752480" cy="2209680"/>
            <a:chOff x="6400800" y="1828800"/>
            <a:chExt cx="1752480" cy="2209680"/>
          </a:xfrm>
        </p:grpSpPr>
        <p:sp>
          <p:nvSpPr>
            <p:cNvPr id="130" name=""/>
            <p:cNvSpPr/>
            <p:nvPr/>
          </p:nvSpPr>
          <p:spPr>
            <a:xfrm>
              <a:off x="6400800" y="1828800"/>
              <a:ext cx="1752480" cy="22096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statemen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bxref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bservabl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ttr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alu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ay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800" y="1828800"/>
              <a:ext cx="1752480" cy="38088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stat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7080" y="3048120"/>
            <a:ext cx="2131560" cy="1599840"/>
            <a:chOff x="4267080" y="3048120"/>
            <a:chExt cx="2131560" cy="1599840"/>
          </a:xfrm>
        </p:grpSpPr>
        <p:sp>
          <p:nvSpPr>
            <p:cNvPr id="133" name=""/>
            <p:cNvSpPr/>
            <p:nvPr/>
          </p:nvSpPr>
          <p:spPr>
            <a:xfrm flipV="1">
              <a:off x="4267080" y="3048120"/>
              <a:ext cx="0" cy="159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67080" y="3048120"/>
              <a:ext cx="213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62520" y="2666880"/>
            <a:ext cx="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553080" y="4038120"/>
            <a:ext cx="1295640" cy="381600"/>
            <a:chOff x="6553080" y="4038120"/>
            <a:chExt cx="1295640" cy="381600"/>
          </a:xfrm>
        </p:grpSpPr>
        <p:grpSp>
          <p:nvGrpSpPr>
            <p:cNvPr id="137" name=""/>
            <p:cNvGrpSpPr/>
            <p:nvPr/>
          </p:nvGrpSpPr>
          <p:grpSpPr>
            <a:xfrm>
              <a:off x="6553080" y="4038480"/>
              <a:ext cx="1294200" cy="381240"/>
              <a:chOff x="6553080" y="4038480"/>
              <a:chExt cx="1294200" cy="38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6553080" y="403848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553080" y="4419720"/>
                <a:ext cx="129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V="1">
              <a:off x="7848720" y="403812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324480" y="4419720"/>
            <a:ext cx="1752840" cy="533160"/>
          </a:xfrm>
          <a:prstGeom prst="rect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enstatement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18112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477120" y="228600"/>
            <a:ext cx="1752480" cy="1143000"/>
            <a:chOff x="6477120" y="228600"/>
            <a:chExt cx="1752480" cy="1143000"/>
          </a:xfrm>
        </p:grpSpPr>
        <p:sp>
          <p:nvSpPr>
            <p:cNvPr id="144" name=""/>
            <p:cNvSpPr/>
            <p:nvPr/>
          </p:nvSpPr>
          <p:spPr>
            <a:xfrm>
              <a:off x="6477120" y="228600"/>
              <a:ext cx="1752480" cy="114300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hendesc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228600"/>
              <a:ext cx="1752480" cy="1965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hendes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5486400" y="8380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4191120" y="228600"/>
            <a:ext cx="4647600" cy="6400800"/>
            <a:chOff x="4191120" y="228600"/>
            <a:chExt cx="4647600" cy="6400800"/>
          </a:xfrm>
        </p:grpSpPr>
        <p:sp>
          <p:nvSpPr>
            <p:cNvPr id="148" name=""/>
            <p:cNvSpPr/>
            <p:nvPr/>
          </p:nvSpPr>
          <p:spPr>
            <a:xfrm flipH="1">
              <a:off x="5181120" y="487692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4191120" y="228600"/>
              <a:ext cx="4647600" cy="6400800"/>
              <a:chOff x="4191120" y="228600"/>
              <a:chExt cx="4647600" cy="64008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5486760" y="1371600"/>
                <a:ext cx="914040" cy="1523880"/>
                <a:chOff x="5486760" y="1371600"/>
                <a:chExt cx="914040" cy="1523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009120" y="1371600"/>
                  <a:ext cx="0" cy="152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009120" y="2895480"/>
                  <a:ext cx="391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486760" y="1371600"/>
                  <a:ext cx="522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1120" y="5867280"/>
                <a:ext cx="1827000" cy="533520"/>
                <a:chOff x="4191120" y="5867280"/>
                <a:chExt cx="1827000" cy="5335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191120" y="586728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91120" y="640080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019920" y="5486400"/>
                <a:ext cx="2818800" cy="1143000"/>
                <a:chOff x="6019920" y="5486400"/>
                <a:chExt cx="2818800" cy="1143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9920" y="5486400"/>
                  <a:ext cx="281880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term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19920" y="5486400"/>
                  <a:ext cx="2818800" cy="19692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cvt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8153280" y="2743920"/>
                <a:ext cx="380880" cy="2742480"/>
                <a:chOff x="8153280" y="2743920"/>
                <a:chExt cx="380880" cy="2742480"/>
              </a:xfrm>
            </p:grpSpPr>
            <p:sp>
              <p:nvSpPr>
                <p:cNvPr id="161" name=""/>
                <p:cNvSpPr/>
                <p:nvPr/>
              </p:nvSpPr>
              <p:spPr>
                <a:xfrm flipV="1">
                  <a:off x="8534160" y="2743920"/>
                  <a:ext cx="0" cy="2742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153280" y="27439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4572000" y="3277080"/>
                <a:ext cx="1827000" cy="1371240"/>
                <a:chOff x="4572000" y="3277080"/>
                <a:chExt cx="1827000" cy="1371240"/>
              </a:xfrm>
            </p:grpSpPr>
            <p:sp>
              <p:nvSpPr>
                <p:cNvPr id="164" name=""/>
                <p:cNvSpPr/>
                <p:nvPr/>
              </p:nvSpPr>
              <p:spPr>
                <a:xfrm flipV="1">
                  <a:off x="4572000" y="3277080"/>
                  <a:ext cx="0" cy="137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72000" y="3277080"/>
                  <a:ext cx="1827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4876920" y="3733920"/>
                <a:ext cx="1522440" cy="914400"/>
                <a:chOff x="4876920" y="3733920"/>
                <a:chExt cx="1522440" cy="914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4876920" y="3733920"/>
                  <a:ext cx="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876920" y="3733920"/>
                  <a:ext cx="1522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5105520" y="3962160"/>
                <a:ext cx="1293840" cy="685800"/>
                <a:chOff x="5105520" y="3962160"/>
                <a:chExt cx="1293840" cy="685800"/>
              </a:xfrm>
            </p:grpSpPr>
            <p:sp>
              <p:nvSpPr>
                <p:cNvPr id="170" name=""/>
                <p:cNvSpPr/>
                <p:nvPr/>
              </p:nvSpPr>
              <p:spPr>
                <a:xfrm flipV="1">
                  <a:off x="5105520" y="3962160"/>
                  <a:ext cx="0" cy="68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05520" y="396216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400800" y="1828800"/>
                <a:ext cx="1752480" cy="2209680"/>
                <a:chOff x="6400800" y="1828800"/>
                <a:chExt cx="1752480" cy="22096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400800" y="1828800"/>
                  <a:ext cx="1752480" cy="22096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bxref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observabl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ttr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value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ssay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400800" y="1828800"/>
                  <a:ext cx="1752480" cy="38088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stat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67080" y="3048120"/>
                <a:ext cx="2131560" cy="1599840"/>
                <a:chOff x="4267080" y="3048120"/>
                <a:chExt cx="2131560" cy="1599840"/>
              </a:xfrm>
            </p:grpSpPr>
            <p:sp>
              <p:nvSpPr>
                <p:cNvPr id="176" name=""/>
                <p:cNvSpPr/>
                <p:nvPr/>
              </p:nvSpPr>
              <p:spPr>
                <a:xfrm flipV="1">
                  <a:off x="4267080" y="3048120"/>
                  <a:ext cx="0" cy="159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67080" y="3048120"/>
                  <a:ext cx="2131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553080" y="4038120"/>
                <a:ext cx="1295640" cy="381600"/>
                <a:chOff x="6553080" y="4038120"/>
                <a:chExt cx="1295640" cy="381600"/>
              </a:xfrm>
            </p:grpSpPr>
            <p:grpSp>
              <p:nvGrpSpPr>
                <p:cNvPr id="179" name=""/>
                <p:cNvGrpSpPr/>
                <p:nvPr/>
              </p:nvGrpSpPr>
              <p:grpSpPr>
                <a:xfrm>
                  <a:off x="6553080" y="4038480"/>
                  <a:ext cx="1294200" cy="381240"/>
                  <a:chOff x="6553080" y="4038480"/>
                  <a:chExt cx="1294200" cy="3812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6553080" y="4038480"/>
                    <a:ext cx="0" cy="38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553080" y="4419720"/>
                    <a:ext cx="129420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2" name=""/>
                <p:cNvSpPr/>
                <p:nvPr/>
              </p:nvSpPr>
              <p:spPr>
                <a:xfrm flipV="1">
                  <a:off x="7848720" y="4038120"/>
                  <a:ext cx="0" cy="3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324480" y="4419720"/>
                <a:ext cx="1752840" cy="533160"/>
              </a:xfrm>
              <a:prstGeom prst="rect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henstatement_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lationshi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6477120" y="228600"/>
                <a:ext cx="1752480" cy="1143000"/>
                <a:chOff x="6477120" y="228600"/>
                <a:chExt cx="1752480" cy="11430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6477120" y="228600"/>
                  <a:ext cx="1752480" cy="114300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hendesc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gcontext_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477120" y="228600"/>
                  <a:ext cx="1752480" cy="196560"/>
                </a:xfrm>
                <a:prstGeom prst="rect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phende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 flipH="1">
                <a:off x="5486400" y="838080"/>
                <a:ext cx="99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189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192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195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198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01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04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07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12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695760" y="1676520"/>
            <a:ext cx="1752480" cy="2971800"/>
            <a:chOff x="3695760" y="1676520"/>
            <a:chExt cx="1752480" cy="2971800"/>
          </a:xfrm>
        </p:grpSpPr>
        <p:sp>
          <p:nvSpPr>
            <p:cNvPr id="216" name=""/>
            <p:cNvSpPr/>
            <p:nvPr/>
          </p:nvSpPr>
          <p:spPr>
            <a:xfrm>
              <a:off x="3695760" y="2133720"/>
              <a:ext cx="1752480" cy="533160"/>
            </a:xfrm>
            <a:prstGeom prst="rect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_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886200" y="1676520"/>
              <a:ext cx="1295280" cy="457200"/>
              <a:chOff x="3886200" y="1676520"/>
              <a:chExt cx="1295280" cy="4572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3886200" y="1676520"/>
                <a:ext cx="1293840" cy="457200"/>
                <a:chOff x="3886200" y="1676520"/>
                <a:chExt cx="1293840" cy="45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86200" y="1676520"/>
                  <a:ext cx="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86200" y="2133720"/>
                  <a:ext cx="1293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1" name=""/>
              <p:cNvSpPr/>
              <p:nvPr/>
            </p:nvSpPr>
            <p:spPr>
              <a:xfrm flipV="1">
                <a:off x="5181480" y="16765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3962520" y="2666880"/>
              <a:ext cx="0" cy="198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2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2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3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3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3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3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4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4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219320" y="2209680"/>
            <a:ext cx="7951680" cy="1922760"/>
            <a:chOff x="1219320" y="2209680"/>
            <a:chExt cx="7951680" cy="1922760"/>
          </a:xfrm>
        </p:grpSpPr>
        <p:sp>
          <p:nvSpPr>
            <p:cNvPr id="251" name=""/>
            <p:cNvSpPr/>
            <p:nvPr/>
          </p:nvSpPr>
          <p:spPr>
            <a:xfrm>
              <a:off x="1219320" y="3429000"/>
              <a:ext cx="1904760" cy="380880"/>
            </a:xfrm>
            <a:prstGeom prst="rect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03640" y="2209680"/>
              <a:ext cx="5067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n-ploid organism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can be used for distinguishin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romosomal grou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54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57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60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63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266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269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272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277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02640" y="365040"/>
            <a:ext cx="224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ka: alle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2590920"/>
            <a:ext cx="914400" cy="53316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733920"/>
            <a:ext cx="91440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1" idx="4"/>
            <a:endCxn id="282" idx="0"/>
          </p:cNvCxnSpPr>
          <p:nvPr/>
        </p:nvCxnSpPr>
        <p:spPr>
          <a:xfrm>
            <a:off x="7009920" y="3124080"/>
            <a:ext cx="10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82" idx="4"/>
            <a:endCxn id="283" idx="0"/>
          </p:cNvCxnSpPr>
          <p:nvPr/>
        </p:nvCxnSpPr>
        <p:spPr>
          <a:xfrm flipH="1" rot="16200000">
            <a:off x="6762600" y="4514400"/>
            <a:ext cx="534240" cy="38880"/>
          </a:xfrm>
          <a:prstGeom prst="curvedConnector5">
            <a:avLst>
              <a:gd name="adj1" fmla="val 49966"/>
              <a:gd name="adj2" fmla="val 49532"/>
              <a:gd name="adj3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"/>
          <p:cNvSpPr/>
          <p:nvPr/>
        </p:nvSpPr>
        <p:spPr>
          <a:xfrm>
            <a:off x="746640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288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291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294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297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00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03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06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11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02640" y="365040"/>
            <a:ext cx="307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Stock G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91520" y="25146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152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800600"/>
            <a:ext cx="190512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[2]/T(Y;2)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15" idx="4"/>
            <a:endCxn id="317" idx="0"/>
          </p:cNvCxnSpPr>
          <p:nvPr/>
        </p:nvCxnSpPr>
        <p:spPr>
          <a:xfrm>
            <a:off x="617184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16" idx="4"/>
            <a:endCxn id="318" idx="0"/>
          </p:cNvCxnSpPr>
          <p:nvPr/>
        </p:nvCxnSpPr>
        <p:spPr>
          <a:xfrm>
            <a:off x="7848360" y="304776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17" idx="4"/>
            <a:endCxn id="319" idx="0"/>
          </p:cNvCxnSpPr>
          <p:nvPr/>
        </p:nvCxnSpPr>
        <p:spPr>
          <a:xfrm flipH="1" rot="16200000">
            <a:off x="6305400" y="4057200"/>
            <a:ext cx="610200" cy="876960"/>
          </a:xfrm>
          <a:prstGeom prst="curvedConnector5">
            <a:avLst>
              <a:gd name="adj1" fmla="val 50000"/>
              <a:gd name="adj2" fmla="val 4997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8" idx="4"/>
            <a:endCxn id="319" idx="0"/>
          </p:cNvCxnSpPr>
          <p:nvPr/>
        </p:nvCxnSpPr>
        <p:spPr>
          <a:xfrm rot="5400000">
            <a:off x="7143120" y="4095360"/>
            <a:ext cx="610200" cy="801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4875480" y="380988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76040" y="37339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380880" y="228600"/>
            <a:ext cx="1600200" cy="1219320"/>
            <a:chOff x="380880" y="228600"/>
            <a:chExt cx="1600200" cy="1219320"/>
          </a:xfrm>
        </p:grpSpPr>
        <p:sp>
          <p:nvSpPr>
            <p:cNvPr id="327" name=""/>
            <p:cNvSpPr/>
            <p:nvPr/>
          </p:nvSpPr>
          <p:spPr>
            <a:xfrm>
              <a:off x="380880" y="228600"/>
              <a:ext cx="1600200" cy="121932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880" y="228600"/>
              <a:ext cx="1600200" cy="209880"/>
            </a:xfrm>
            <a:prstGeom prst="rect">
              <a:avLst/>
            </a:prstGeom>
            <a:solidFill>
              <a:srgbClr val="0080ff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219320" y="1981080"/>
            <a:ext cx="1904400" cy="2209680"/>
            <a:chOff x="1219320" y="1981080"/>
            <a:chExt cx="1904400" cy="2209680"/>
          </a:xfrm>
        </p:grpSpPr>
        <p:sp>
          <p:nvSpPr>
            <p:cNvPr id="330" name=""/>
            <p:cNvSpPr/>
            <p:nvPr/>
          </p:nvSpPr>
          <p:spPr>
            <a:xfrm>
              <a:off x="1219320" y="1981080"/>
              <a:ext cx="1904400" cy="22096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eatur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hromosome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1981080"/>
              <a:ext cx="1904400" cy="38088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eature_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924360" y="4648320"/>
            <a:ext cx="1295280" cy="1218960"/>
            <a:chOff x="3924360" y="4648320"/>
            <a:chExt cx="1295280" cy="1218960"/>
          </a:xfrm>
        </p:grpSpPr>
        <p:sp>
          <p:nvSpPr>
            <p:cNvPr id="333" name=""/>
            <p:cNvSpPr/>
            <p:nvPr/>
          </p:nvSpPr>
          <p:spPr>
            <a:xfrm>
              <a:off x="3924360" y="4648320"/>
              <a:ext cx="1295280" cy="121896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vterm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tc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24360" y="4648320"/>
              <a:ext cx="1295280" cy="209880"/>
            </a:xfrm>
            <a:prstGeom prst="rect">
              <a:avLst/>
            </a:prstGeom>
            <a:solidFill>
              <a:srgbClr val="999999">
                <a:alpha val="69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vter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695760" y="228600"/>
            <a:ext cx="1752480" cy="1485720"/>
            <a:chOff x="3695760" y="228600"/>
            <a:chExt cx="1752480" cy="1485720"/>
          </a:xfrm>
        </p:grpSpPr>
        <p:sp>
          <p:nvSpPr>
            <p:cNvPr id="336" name=""/>
            <p:cNvSpPr/>
            <p:nvPr/>
          </p:nvSpPr>
          <p:spPr>
            <a:xfrm>
              <a:off x="3695760" y="228600"/>
              <a:ext cx="1752480" cy="148572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context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nique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b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95760" y="228600"/>
              <a:ext cx="1752480" cy="255600"/>
            </a:xfrm>
            <a:prstGeom prst="rect">
              <a:avLst/>
            </a:prstGeom>
            <a:solidFill>
              <a:srgbClr val="00c262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contex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914400" y="1447920"/>
            <a:ext cx="304920" cy="1371240"/>
            <a:chOff x="914400" y="1447920"/>
            <a:chExt cx="304920" cy="1371240"/>
          </a:xfrm>
        </p:grpSpPr>
        <p:sp>
          <p:nvSpPr>
            <p:cNvPr id="339" name=""/>
            <p:cNvSpPr/>
            <p:nvPr/>
          </p:nvSpPr>
          <p:spPr>
            <a:xfrm>
              <a:off x="914400" y="1447920"/>
              <a:ext cx="0" cy="1371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281916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85800" y="1447920"/>
            <a:ext cx="533160" cy="1828440"/>
            <a:chOff x="685800" y="1447920"/>
            <a:chExt cx="533160" cy="1828440"/>
          </a:xfrm>
        </p:grpSpPr>
        <p:sp>
          <p:nvSpPr>
            <p:cNvPr id="342" name=""/>
            <p:cNvSpPr/>
            <p:nvPr/>
          </p:nvSpPr>
          <p:spPr>
            <a:xfrm>
              <a:off x="685800" y="1447920"/>
              <a:ext cx="0" cy="1828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5800" y="3276360"/>
              <a:ext cx="533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9480" y="3962520"/>
            <a:ext cx="3353040" cy="990000"/>
            <a:chOff x="609480" y="3962520"/>
            <a:chExt cx="3353040" cy="990000"/>
          </a:xfrm>
        </p:grpSpPr>
        <p:grpSp>
          <p:nvGrpSpPr>
            <p:cNvPr id="345" name=""/>
            <p:cNvGrpSpPr/>
            <p:nvPr/>
          </p:nvGrpSpPr>
          <p:grpSpPr>
            <a:xfrm>
              <a:off x="610200" y="3963600"/>
              <a:ext cx="3352320" cy="988920"/>
              <a:chOff x="610200" y="3963600"/>
              <a:chExt cx="3352320" cy="988920"/>
            </a:xfrm>
          </p:grpSpPr>
          <p:sp>
            <p:nvSpPr>
              <p:cNvPr id="346" name=""/>
              <p:cNvSpPr/>
              <p:nvPr/>
            </p:nvSpPr>
            <p:spPr>
              <a:xfrm flipH="1">
                <a:off x="610200" y="4952520"/>
                <a:ext cx="3352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610200" y="3963600"/>
                <a:ext cx="0" cy="988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609480" y="396252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123720" y="838080"/>
            <a:ext cx="533880" cy="2286000"/>
            <a:chOff x="3123720" y="838080"/>
            <a:chExt cx="533880" cy="2286000"/>
          </a:xfrm>
        </p:grpSpPr>
        <p:sp>
          <p:nvSpPr>
            <p:cNvPr id="350" name=""/>
            <p:cNvSpPr/>
            <p:nvPr/>
          </p:nvSpPr>
          <p:spPr>
            <a:xfrm>
              <a:off x="3352680" y="838080"/>
              <a:ext cx="0" cy="228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123720" y="3124080"/>
              <a:ext cx="228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2680" y="8380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563800" y="380880"/>
            <a:ext cx="34041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 Genotyp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43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{hsFLP}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010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3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010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38680" y="4876920"/>
            <a:ext cx="1905120" cy="53316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{hsFLP}1, w[1118]; Adv[1]/C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4"/>
            <a:endCxn id="356" idx="0"/>
          </p:cNvCxnSpPr>
          <p:nvPr/>
        </p:nvCxnSpPr>
        <p:spPr>
          <a:xfrm>
            <a:off x="4800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0" name=""/>
          <p:cNvCxnSpPr>
            <a:stCxn id="355" idx="4"/>
            <a:endCxn id="357" idx="0"/>
          </p:cNvCxnSpPr>
          <p:nvPr/>
        </p:nvCxnSpPr>
        <p:spPr>
          <a:xfrm>
            <a:off x="84578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"/>
          <p:cNvCxnSpPr>
            <a:stCxn id="356" idx="4"/>
            <a:endCxn id="358" idx="0"/>
          </p:cNvCxnSpPr>
          <p:nvPr/>
        </p:nvCxnSpPr>
        <p:spPr>
          <a:xfrm flipH="1" rot="16200000">
            <a:off x="5352840" y="3638160"/>
            <a:ext cx="686520" cy="1791360"/>
          </a:xfrm>
          <a:prstGeom prst="curvedConnector5">
            <a:avLst>
              <a:gd name="adj1" fmla="val 50000"/>
              <a:gd name="adj2" fmla="val 49989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57" idx="4"/>
            <a:endCxn id="358" idx="0"/>
          </p:cNvCxnSpPr>
          <p:nvPr/>
        </p:nvCxnSpPr>
        <p:spPr>
          <a:xfrm rot="5400000">
            <a:off x="7181280" y="3600360"/>
            <a:ext cx="686520" cy="186768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63" name=""/>
          <p:cNvSpPr/>
          <p:nvPr/>
        </p:nvSpPr>
        <p:spPr>
          <a:xfrm>
            <a:off x="3503880" y="39625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276040" y="419112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3657600"/>
            <a:ext cx="914400" cy="533520"/>
          </a:xfrm>
          <a:prstGeom prst="ellipse">
            <a:avLst/>
          </a:prstGeom>
          <a:solidFill>
            <a:srgbClr val="00c2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_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286000"/>
            <a:ext cx="914400" cy="533520"/>
          </a:xfrm>
          <a:prstGeom prst="ellipse">
            <a:avLst/>
          </a:prstGeom>
          <a:solidFill>
            <a:srgbClr val="008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[111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6705720" y="2286000"/>
            <a:ext cx="914400" cy="1905120"/>
            <a:chOff x="6705720" y="2286000"/>
            <a:chExt cx="914400" cy="1905120"/>
          </a:xfrm>
        </p:grpSpPr>
        <p:sp>
          <p:nvSpPr>
            <p:cNvPr id="368" name=""/>
            <p:cNvSpPr/>
            <p:nvPr/>
          </p:nvSpPr>
          <p:spPr>
            <a:xfrm>
              <a:off x="6705720" y="3657600"/>
              <a:ext cx="914400" cy="533520"/>
            </a:xfrm>
            <a:prstGeom prst="ellipse">
              <a:avLst/>
            </a:prstGeom>
            <a:solidFill>
              <a:srgbClr val="00c26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_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05720" y="2286000"/>
              <a:ext cx="914400" cy="533520"/>
            </a:xfrm>
            <a:prstGeom prst="ellipse">
              <a:avLst/>
            </a:prstGeom>
            <a:solidFill>
              <a:srgbClr val="008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dv[1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69" idx="4"/>
              <a:endCxn id="368" idx="0"/>
            </p:cNvCxnSpPr>
            <p:nvPr/>
          </p:nvCxnSpPr>
          <p:spPr>
            <a:xfrm>
              <a:off x="7162560" y="2819520"/>
              <a:ext cx="1080" cy="838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cxnSp>
        <p:nvCxnSpPr>
          <p:cNvPr id="371" name=""/>
          <p:cNvCxnSpPr>
            <a:stCxn id="366" idx="4"/>
            <a:endCxn id="365" idx="0"/>
          </p:cNvCxnSpPr>
          <p:nvPr/>
        </p:nvCxnSpPr>
        <p:spPr>
          <a:xfrm>
            <a:off x="5943240" y="28195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586620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5520" y="317016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group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5" idx="4"/>
            <a:endCxn id="358" idx="0"/>
          </p:cNvCxnSpPr>
          <p:nvPr/>
        </p:nvCxnSpPr>
        <p:spPr>
          <a:xfrm flipH="1" rot="16200000">
            <a:off x="5923440" y="4209840"/>
            <a:ext cx="68652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8" idx="4"/>
            <a:endCxn id="358" idx="0"/>
          </p:cNvCxnSpPr>
          <p:nvPr/>
        </p:nvCxnSpPr>
        <p:spPr>
          <a:xfrm rot="5400000">
            <a:off x="6533640" y="4248000"/>
            <a:ext cx="686520" cy="57240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380880" y="228600"/>
            <a:ext cx="5067360" cy="5638680"/>
            <a:chOff x="380880" y="228600"/>
            <a:chExt cx="5067360" cy="5638680"/>
          </a:xfrm>
        </p:grpSpPr>
        <p:grpSp>
          <p:nvGrpSpPr>
            <p:cNvPr id="377" name=""/>
            <p:cNvGrpSpPr/>
            <p:nvPr/>
          </p:nvGrpSpPr>
          <p:grpSpPr>
            <a:xfrm>
              <a:off x="380880" y="228600"/>
              <a:ext cx="1600200" cy="1219320"/>
              <a:chOff x="380880" y="228600"/>
              <a:chExt cx="1600200" cy="1219320"/>
            </a:xfrm>
          </p:grpSpPr>
          <p:sp>
            <p:nvSpPr>
              <p:cNvPr id="378" name=""/>
              <p:cNvSpPr/>
              <p:nvPr/>
            </p:nvSpPr>
            <p:spPr>
              <a:xfrm>
                <a:off x="380880" y="228600"/>
                <a:ext cx="1600200" cy="121932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880" y="228600"/>
                <a:ext cx="1600200" cy="209880"/>
              </a:xfrm>
              <a:prstGeom prst="rect">
                <a:avLst/>
              </a:prstGeom>
              <a:solidFill>
                <a:srgbClr val="0080ff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1219320" y="1981080"/>
              <a:ext cx="1904400" cy="2209680"/>
              <a:chOff x="1219320" y="1981080"/>
              <a:chExt cx="1904400" cy="2209680"/>
            </a:xfrm>
          </p:grpSpPr>
          <p:sp>
            <p:nvSpPr>
              <p:cNvPr id="381" name=""/>
              <p:cNvSpPr/>
              <p:nvPr/>
            </p:nvSpPr>
            <p:spPr>
              <a:xfrm>
                <a:off x="1219320" y="1981080"/>
                <a:ext cx="1904400" cy="22096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eatur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hromosome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219320" y="1981080"/>
                <a:ext cx="1904400" cy="38088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feature_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924360" y="4648320"/>
              <a:ext cx="1295280" cy="1218960"/>
              <a:chOff x="3924360" y="4648320"/>
              <a:chExt cx="1295280" cy="1218960"/>
            </a:xfrm>
          </p:grpSpPr>
          <p:sp>
            <p:nvSpPr>
              <p:cNvPr id="384" name=""/>
              <p:cNvSpPr/>
              <p:nvPr/>
            </p:nvSpPr>
            <p:spPr>
              <a:xfrm>
                <a:off x="3924360" y="4648320"/>
                <a:ext cx="1295280" cy="121896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vterm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tc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4648320"/>
                <a:ext cx="1295280" cy="209880"/>
              </a:xfrm>
              <a:prstGeom prst="rect">
                <a:avLst/>
              </a:prstGeom>
              <a:solidFill>
                <a:srgbClr val="999999">
                  <a:alpha val="69000"/>
                </a:srgbClr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vte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695760" y="228600"/>
              <a:ext cx="1752480" cy="1485720"/>
              <a:chOff x="3695760" y="228600"/>
              <a:chExt cx="1752480" cy="1485720"/>
            </a:xfrm>
          </p:grpSpPr>
          <p:sp>
            <p:nvSpPr>
              <p:cNvPr id="387" name=""/>
              <p:cNvSpPr/>
              <p:nvPr/>
            </p:nvSpPr>
            <p:spPr>
              <a:xfrm>
                <a:off x="3695760" y="228600"/>
                <a:ext cx="1752480" cy="148572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context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quena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crip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ub_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95760" y="228600"/>
                <a:ext cx="1752480" cy="255600"/>
              </a:xfrm>
              <a:prstGeom prst="rect">
                <a:avLst/>
              </a:prstGeom>
              <a:solidFill>
                <a:srgbClr val="00c262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gcontex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914400" y="1447920"/>
              <a:ext cx="304920" cy="1371240"/>
              <a:chOff x="914400" y="1447920"/>
              <a:chExt cx="304920" cy="1371240"/>
            </a:xfrm>
          </p:grpSpPr>
          <p:sp>
            <p:nvSpPr>
              <p:cNvPr id="390" name=""/>
              <p:cNvSpPr/>
              <p:nvPr/>
            </p:nvSpPr>
            <p:spPr>
              <a:xfrm>
                <a:off x="914400" y="1447920"/>
                <a:ext cx="0" cy="1371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81916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85800" y="1447920"/>
              <a:ext cx="533160" cy="1828440"/>
              <a:chOff x="685800" y="1447920"/>
              <a:chExt cx="533160" cy="1828440"/>
            </a:xfrm>
          </p:grpSpPr>
          <p:sp>
            <p:nvSpPr>
              <p:cNvPr id="393" name=""/>
              <p:cNvSpPr/>
              <p:nvPr/>
            </p:nvSpPr>
            <p:spPr>
              <a:xfrm>
                <a:off x="685800" y="1447920"/>
                <a:ext cx="0" cy="1828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5800" y="3276360"/>
                <a:ext cx="533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9480" y="3962520"/>
              <a:ext cx="3353040" cy="990000"/>
              <a:chOff x="609480" y="3962520"/>
              <a:chExt cx="3353040" cy="99000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0200" y="3963600"/>
                <a:ext cx="3352320" cy="988920"/>
                <a:chOff x="610200" y="3963600"/>
                <a:chExt cx="3352320" cy="988920"/>
              </a:xfrm>
            </p:grpSpPr>
            <p:sp>
              <p:nvSpPr>
                <p:cNvPr id="397" name=""/>
                <p:cNvSpPr/>
                <p:nvPr/>
              </p:nvSpPr>
              <p:spPr>
                <a:xfrm flipH="1">
                  <a:off x="610200" y="4952520"/>
                  <a:ext cx="33523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10200" y="3963600"/>
                  <a:ext cx="0" cy="988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09480" y="396252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123720" y="838080"/>
              <a:ext cx="533880" cy="2286000"/>
              <a:chOff x="3123720" y="838080"/>
              <a:chExt cx="533880" cy="2286000"/>
            </a:xfrm>
          </p:grpSpPr>
          <p:sp>
            <p:nvSpPr>
              <p:cNvPr id="401" name=""/>
              <p:cNvSpPr/>
              <p:nvPr/>
            </p:nvSpPr>
            <p:spPr>
              <a:xfrm>
                <a:off x="3352680" y="838080"/>
                <a:ext cx="0" cy="2286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123720" y="3124080"/>
                <a:ext cx="2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2680" y="83808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3123000" y="228600"/>
            <a:ext cx="6478200" cy="5181480"/>
            <a:chOff x="3123000" y="228600"/>
            <a:chExt cx="6478200" cy="5181480"/>
          </a:xfrm>
        </p:grpSpPr>
        <p:sp>
          <p:nvSpPr>
            <p:cNvPr id="405" name=""/>
            <p:cNvSpPr/>
            <p:nvPr/>
          </p:nvSpPr>
          <p:spPr>
            <a:xfrm>
              <a:off x="8276040" y="3170160"/>
              <a:ext cx="86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ank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group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123000" y="228600"/>
              <a:ext cx="6478200" cy="5181480"/>
              <a:chOff x="3123000" y="228600"/>
              <a:chExt cx="6478200" cy="5181480"/>
            </a:xfrm>
          </p:grpSpPr>
          <p:sp>
            <p:nvSpPr>
              <p:cNvPr id="407" name=""/>
              <p:cNvSpPr/>
              <p:nvPr/>
            </p:nvSpPr>
            <p:spPr>
              <a:xfrm>
                <a:off x="5486400" y="228600"/>
                <a:ext cx="4114800" cy="9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ock Genotype II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 y[1] f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00100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[1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100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638680" y="4876920"/>
                <a:ext cx="1905120" cy="53316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t[13z]/Dp(1;2;Y)w[+]/C(1)DX,y[1] f[1]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1" name=""/>
              <p:cNvCxnSpPr>
                <a:stCxn id="408" idx="4"/>
                <a:endCxn id="409" idx="0"/>
              </p:cNvCxnSpPr>
              <p:nvPr/>
            </p:nvCxnSpPr>
            <p:spPr>
              <a:xfrm>
                <a:off x="845784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2" name=""/>
              <p:cNvCxnSpPr>
                <a:stCxn id="413" idx="4"/>
                <a:endCxn id="410" idx="0"/>
              </p:cNvCxnSpPr>
              <p:nvPr/>
            </p:nvCxnSpPr>
            <p:spPr>
              <a:xfrm flipH="1" rot="16200000">
                <a:off x="5009040" y="3295440"/>
                <a:ext cx="686520" cy="247716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4" name=""/>
              <p:cNvCxnSpPr>
                <a:stCxn id="409" idx="4"/>
                <a:endCxn id="410" idx="0"/>
              </p:cNvCxnSpPr>
              <p:nvPr/>
            </p:nvCxnSpPr>
            <p:spPr>
              <a:xfrm rot="5400000">
                <a:off x="7181280" y="3600360"/>
                <a:ext cx="686520" cy="1867680"/>
              </a:xfrm>
              <a:prstGeom prst="curvedConnector5">
                <a:avLst>
                  <a:gd name="adj1" fmla="val 50000"/>
                  <a:gd name="adj2" fmla="val 4999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415" name=""/>
              <p:cNvGrpSpPr/>
              <p:nvPr/>
            </p:nvGrpSpPr>
            <p:grpSpPr>
              <a:xfrm>
                <a:off x="3657600" y="2286000"/>
                <a:ext cx="914400" cy="1905120"/>
                <a:chOff x="3657600" y="2286000"/>
                <a:chExt cx="914400" cy="1905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65760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t[13z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65760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7" name=""/>
                <p:cNvCxnSpPr>
                  <a:stCxn id="416" idx="4"/>
                  <a:endCxn id="413" idx="0"/>
                </p:cNvCxnSpPr>
                <p:nvPr/>
              </p:nvCxnSpPr>
              <p:spPr>
                <a:xfrm>
                  <a:off x="411444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18" name=""/>
              <p:cNvSpPr/>
              <p:nvPr/>
            </p:nvSpPr>
            <p:spPr>
              <a:xfrm>
                <a:off x="3123000" y="403848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9" name=""/>
              <p:cNvGrpSpPr/>
              <p:nvPr/>
            </p:nvGrpSpPr>
            <p:grpSpPr>
              <a:xfrm>
                <a:off x="6934320" y="2286000"/>
                <a:ext cx="914400" cy="1905120"/>
                <a:chOff x="6934320" y="2286000"/>
                <a:chExt cx="914400" cy="19051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3657600"/>
                  <a:ext cx="914400" cy="533520"/>
                </a:xfrm>
                <a:prstGeom prst="ellipse">
                  <a:avLst/>
                </a:prstGeom>
                <a:solidFill>
                  <a:srgbClr val="00c26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f_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286000"/>
                  <a:ext cx="914400" cy="533520"/>
                </a:xfrm>
                <a:prstGeom prst="ellipse">
                  <a:avLst/>
                </a:prstGeom>
                <a:solidFill>
                  <a:srgbClr val="008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y[1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22" name=""/>
                <p:cNvCxnSpPr>
                  <a:stCxn id="421" idx="4"/>
                  <a:endCxn id="420" idx="0"/>
                </p:cNvCxnSpPr>
                <p:nvPr/>
              </p:nvCxnSpPr>
              <p:spPr>
                <a:xfrm>
                  <a:off x="7391160" y="2819520"/>
                  <a:ext cx="1080" cy="838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423" name=""/>
              <p:cNvSpPr/>
              <p:nvPr/>
            </p:nvSpPr>
            <p:spPr>
              <a:xfrm>
                <a:off x="5867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7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(1)D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5" name=""/>
              <p:cNvCxnSpPr>
                <a:stCxn id="424" idx="4"/>
                <a:endCxn id="423" idx="0"/>
              </p:cNvCxnSpPr>
              <p:nvPr/>
            </p:nvCxnSpPr>
            <p:spPr>
              <a:xfrm>
                <a:off x="6324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26" name=""/>
              <p:cNvSpPr/>
              <p:nvPr/>
            </p:nvSpPr>
            <p:spPr>
              <a:xfrm>
                <a:off x="571392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37800" y="317016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28" name=""/>
              <p:cNvCxnSpPr>
                <a:stCxn id="423" idx="4"/>
                <a:endCxn id="410" idx="0"/>
              </p:cNvCxnSpPr>
              <p:nvPr/>
            </p:nvCxnSpPr>
            <p:spPr>
              <a:xfrm flipH="1" rot="16200000">
                <a:off x="6113520" y="4400280"/>
                <a:ext cx="686520" cy="267120"/>
              </a:xfrm>
              <a:prstGeom prst="curvedConnector5">
                <a:avLst>
                  <a:gd name="adj1" fmla="val 50000"/>
                  <a:gd name="adj2" fmla="val 49932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9" name=""/>
              <p:cNvCxnSpPr>
                <a:stCxn id="420" idx="4"/>
                <a:endCxn id="410" idx="0"/>
              </p:cNvCxnSpPr>
              <p:nvPr/>
            </p:nvCxnSpPr>
            <p:spPr>
              <a:xfrm rot="5400000">
                <a:off x="6647760" y="4133520"/>
                <a:ext cx="686520" cy="801000"/>
              </a:xfrm>
              <a:prstGeom prst="curvedConnector5">
                <a:avLst>
                  <a:gd name="adj1" fmla="val 50000"/>
                  <a:gd name="adj2" fmla="val 50000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0" name=""/>
              <p:cNvSpPr/>
              <p:nvPr/>
            </p:nvSpPr>
            <p:spPr>
              <a:xfrm>
                <a:off x="4724280" y="2286000"/>
                <a:ext cx="914400" cy="533520"/>
              </a:xfrm>
              <a:prstGeom prst="ellipse">
                <a:avLst/>
              </a:prstGeom>
              <a:solidFill>
                <a:srgbClr val="0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p(1;2;Y)w[+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24280" y="3657600"/>
                <a:ext cx="914400" cy="533520"/>
              </a:xfrm>
              <a:prstGeom prst="ellipse">
                <a:avLst/>
              </a:prstGeom>
              <a:solidFill>
                <a:srgbClr val="00c26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_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2" name=""/>
              <p:cNvCxnSpPr>
                <a:stCxn id="430" idx="4"/>
                <a:endCxn id="431" idx="0"/>
              </p:cNvCxnSpPr>
              <p:nvPr/>
            </p:nvCxnSpPr>
            <p:spPr>
              <a:xfrm>
                <a:off x="5181120" y="2819520"/>
                <a:ext cx="1080" cy="838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33" name=""/>
              <p:cNvSpPr/>
              <p:nvPr/>
            </p:nvSpPr>
            <p:spPr>
              <a:xfrm>
                <a:off x="4570920" y="2911320"/>
                <a:ext cx="869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ank=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group=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34" name=""/>
              <p:cNvCxnSpPr>
                <a:stCxn id="431" idx="4"/>
                <a:endCxn id="410" idx="0"/>
              </p:cNvCxnSpPr>
              <p:nvPr/>
            </p:nvCxnSpPr>
            <p:spPr>
              <a:xfrm flipH="1" rot="16200000">
                <a:off x="5543280" y="3828600"/>
                <a:ext cx="686520" cy="1410480"/>
              </a:xfrm>
              <a:prstGeom prst="curvedConnector5">
                <a:avLst>
                  <a:gd name="adj1" fmla="val 50000"/>
                  <a:gd name="adj2" fmla="val 49987"/>
                  <a:gd name="adj3" fmla="val 5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9T21:19:00Z</dcterms:created>
  <dc:creator>William M. Gelbart</dc:creator>
  <dc:description/>
  <dc:language>en-US</dc:language>
  <cp:lastModifiedBy>William M. Gelbart</cp:lastModifiedBy>
  <dcterms:modified xsi:type="dcterms:W3CDTF">2004-04-26T20:26:57Z</dcterms:modified>
  <cp:revision>76</cp:revision>
  <dc:subject/>
  <dc:title>The   chado genetics module</dc:title>
</cp:coreProperties>
</file>